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F83-3721-44FB-B63F-19E5B143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380-9867-4459-AC83-C86A889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6FD-44C5-4921-8C67-1D5621CB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638-4C7C-48BB-B295-EA062F8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47F-8978-4357-89DC-8B9A262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CDD-B1B2-402A-92AB-9B41900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B7A-8EC4-4ADD-9EFA-382027F5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881-7A9B-4730-946E-810986B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1E1-305F-4438-9E4C-0392AE8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FCC-8980-44D7-A23B-38AB479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ACB-A725-4B8C-A490-357DBA3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D42-D5BC-4AF3-979E-4D41F7B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863-FB23-4669-9D43-C52F6A991FD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commons.wikimedia.org/wiki/File:Flag_icon_red_4.svg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commons.wikimedia.org/wiki/File:Flag_icon_red_4.svg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commons.wikimedia.org/wiki/File:Flag_icon_red_4.svg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commons.wikimedia.org/wiki/File:Flag_icon_red_4.svg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commons.wikimedia.org/wiki/File:Flag_icon_red_4.svg" TargetMode="External"/><Relationship Id="rId18" Type="http://schemas.openxmlformats.org/officeDocument/2006/relationships/image" Target="../media/image1.png"/><Relationship Id="rId19" Type="http://schemas.openxmlformats.org/officeDocument/2006/relationships/hyperlink" Target="http://commons.wikimedia.org/wiki/File:Flag_icon_red_4.svg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commons.wikimedia.org/wiki/File:Flag_icon_red_4.svg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commons.wikimedia.org/wiki/File:Flag_icon_red_4.svg" TargetMode="External"/><Relationship Id="rId24" Type="http://schemas.openxmlformats.org/officeDocument/2006/relationships/image" Target="../media/image1.png"/><Relationship Id="rId25" Type="http://schemas.openxmlformats.org/officeDocument/2006/relationships/hyperlink" Target="http://commons.wikimedia.org/wiki/File:Flag_icon_red_4.svg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commons.wikimedia.org/wiki/File:Flag_icon_red_4.sv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commons.wikimedia.org/wiki/File:Flag_icon_red_4.svg" TargetMode="External"/><Relationship Id="rId30" Type="http://schemas.openxmlformats.org/officeDocument/2006/relationships/image" Target="../media/image1.png"/><Relationship Id="rId31" Type="http://schemas.openxmlformats.org/officeDocument/2006/relationships/hyperlink" Target="http://commons.wikimedia.org/wiki/File:Flag_icon_red_4.svg" TargetMode="External"/><Relationship Id="rId32" Type="http://schemas.openxmlformats.org/officeDocument/2006/relationships/image" Target="../media/image1.png"/><Relationship Id="rId33" Type="http://schemas.openxmlformats.org/officeDocument/2006/relationships/hyperlink" Target="http://commons.wikimedia.org/wiki/File:Flag_icon_red_4.svg" TargetMode="External"/><Relationship Id="rId34" Type="http://schemas.openxmlformats.org/officeDocument/2006/relationships/image" Target="../media/image1.png"/><Relationship Id="rId35" Type="http://schemas.openxmlformats.org/officeDocument/2006/relationships/hyperlink" Target="http://commons.wikimedia.org/wiki/File:Flag_icon_red_4.svg" TargetMode="External"/><Relationship Id="rId36" Type="http://schemas.openxmlformats.org/officeDocument/2006/relationships/image" Target="../media/image1.png"/><Relationship Id="rId37" Type="http://schemas.openxmlformats.org/officeDocument/2006/relationships/hyperlink" Target="http://commons.wikimedia.org/wiki/File:Flag_icon_red_4.svg" TargetMode="External"/><Relationship Id="rId38" Type="http://schemas.openxmlformats.org/officeDocument/2006/relationships/image" Target="../media/image1.png"/><Relationship Id="rId39" Type="http://schemas.openxmlformats.org/officeDocument/2006/relationships/hyperlink" Target="http://commons.wikimedia.org/wiki/File:Flag_icon_red_4.svg" TargetMode="External"/><Relationship Id="rId40" Type="http://schemas.openxmlformats.org/officeDocument/2006/relationships/image" Target="../media/image1.png"/><Relationship Id="rId41" Type="http://schemas.openxmlformats.org/officeDocument/2006/relationships/hyperlink" Target="http://commons.wikimedia.org/wiki/File:Flag_icon_red_4.svg" TargetMode="External"/><Relationship Id="rId42" Type="http://schemas.openxmlformats.org/officeDocument/2006/relationships/image" Target="../media/image1.png"/><Relationship Id="rId43" Type="http://schemas.openxmlformats.org/officeDocument/2006/relationships/hyperlink" Target="http://commons.wikimedia.org/wiki/File:Flag_icon_red_4.svg" TargetMode="External"/><Relationship Id="rId44" Type="http://schemas.openxmlformats.org/officeDocument/2006/relationships/image" Target="../media/image1.png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commons.wikimedia.org/wiki/File:Flag_icon_red_4.svg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commons.wikimedia.org/wiki/File:Flag_icon_red_4.svg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commons.wikimedia.org/wiki/File:Flag_icon_red_4.svg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commons.wikimedia.org/wiki/File:Flag_icon_red_4.svg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commons.wikimedia.org/wiki/File:Flag_icon_red_4.svg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commons.wikimedia.org/wiki/File:Flag_icon_red_4.svg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commons.wikimedia.org/wiki/File:Flag_icon_red_4.svg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commons.wikimedia.org/wiki/File:Flag_icon_red_4.svg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commons.wikimedia.org/wiki/File:Flag_icon_red_4.svg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hyperlink" Target="http://commons.wikimedia.org/wiki/File:Flag_icon_red_4.svg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commons.wikimedia.org/wiki/File:Flag_icon_red_4.svg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wmf"/><Relationship Id="rId18" Type="http://schemas.openxmlformats.org/officeDocument/2006/relationships/hyperlink" Target="http://commons.wikimedia.org/wiki/File:Flag_icon_red_4.svg" TargetMode="External"/><Relationship Id="rId19" Type="http://schemas.openxmlformats.org/officeDocument/2006/relationships/image" Target="../media/image1.png"/><Relationship Id="rId20" Type="http://schemas.openxmlformats.org/officeDocument/2006/relationships/hyperlink" Target="http://commons.wikimedia.org/wiki/File:Flag_icon_red_4.svg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commons.wikimedia.org/wiki/File:Flag_icon_red_4.svg" TargetMode="External"/><Relationship Id="rId23" Type="http://schemas.openxmlformats.org/officeDocument/2006/relationships/image" Target="../media/image1.png"/><Relationship Id="rId24" Type="http://schemas.openxmlformats.org/officeDocument/2006/relationships/image" Target="../media/image2.wmf"/><Relationship Id="rId2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commons.wikimedia.org/wiki/File:Flag_icon_red_4.svg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commons.wikimedia.org/wiki/File:Flag_icon_red_4.svg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commons.wikimedia.org/wiki/File:Flag_icon_red_4.svg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ommons.wikimedia.org/wiki/File:Flag_icon_red_4.svg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2.wmf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commons.wikimedia.org/wiki/File:Flag_icon_red_4.svg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commons.wikimedia.org/wiki/File:Flag_icon_red_4.svg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commons.wikimedia.org/wiki/File:Flag_icon_red_4.svg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commons.wikimedia.org/wiki/File:Flag_icon_red_4.svg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commons.wikimedia.org/wiki/File:Flag_icon_red_4.svg" TargetMode="External"/><Relationship Id="rId18" Type="http://schemas.openxmlformats.org/officeDocument/2006/relationships/image" Target="../media/image1.png"/><Relationship Id="rId19" Type="http://schemas.openxmlformats.org/officeDocument/2006/relationships/hyperlink" Target="http://commons.wikimedia.org/wiki/File:Flag_icon_red_4.svg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commons.wikimedia.org/wiki/File:Flag_icon_red_4.svg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commons.wikimedia.org/wiki/File:Flag_icon_red_4.svg" TargetMode="External"/><Relationship Id="rId24" Type="http://schemas.openxmlformats.org/officeDocument/2006/relationships/image" Target="../media/image1.png"/><Relationship Id="rId25" Type="http://schemas.openxmlformats.org/officeDocument/2006/relationships/hyperlink" Target="http://commons.wikimedia.org/wiki/File:Flag_icon_red_4.svg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commons.wikimedia.org/wiki/File:Flag_icon_red_4.sv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commons.wikimedia.org/wiki/File:Flag_icon_red_4.svg" TargetMode="External"/><Relationship Id="rId30" Type="http://schemas.openxmlformats.org/officeDocument/2006/relationships/image" Target="../media/image1.png"/><Relationship Id="rId31" Type="http://schemas.openxmlformats.org/officeDocument/2006/relationships/hyperlink" Target="http://commons.wikimedia.org/wiki/File:Flag_icon_red_4.svg" TargetMode="External"/><Relationship Id="rId32" Type="http://schemas.openxmlformats.org/officeDocument/2006/relationships/image" Target="../media/image1.png"/><Relationship Id="rId33" Type="http://schemas.openxmlformats.org/officeDocument/2006/relationships/hyperlink" Target="http://commons.wikimedia.org/wiki/File:Flag_icon_red_4.svg" TargetMode="External"/><Relationship Id="rId34" Type="http://schemas.openxmlformats.org/officeDocument/2006/relationships/image" Target="../media/image1.png"/><Relationship Id="rId35" Type="http://schemas.openxmlformats.org/officeDocument/2006/relationships/hyperlink" Target="http://commons.wikimedia.org/wiki/File:Flag_icon_red_4.svg" TargetMode="External"/><Relationship Id="rId36" Type="http://schemas.openxmlformats.org/officeDocument/2006/relationships/image" Target="../media/image1.png"/><Relationship Id="rId37" Type="http://schemas.openxmlformats.org/officeDocument/2006/relationships/hyperlink" Target="http://commons.wikimedia.org/wiki/File:Flag_icon_red_4.svg" TargetMode="External"/><Relationship Id="rId38" Type="http://schemas.openxmlformats.org/officeDocument/2006/relationships/image" Target="../media/image1.png"/><Relationship Id="rId39" Type="http://schemas.openxmlformats.org/officeDocument/2006/relationships/hyperlink" Target="http://commons.wikimedia.org/wiki/File:Flag_icon_red_4.svg" TargetMode="External"/><Relationship Id="rId40" Type="http://schemas.openxmlformats.org/officeDocument/2006/relationships/image" Target="../media/image1.png"/><Relationship Id="rId41" Type="http://schemas.openxmlformats.org/officeDocument/2006/relationships/hyperlink" Target="http://commons.wikimedia.org/wiki/File:Flag_icon_red_4.svg" TargetMode="External"/><Relationship Id="rId42" Type="http://schemas.openxmlformats.org/officeDocument/2006/relationships/image" Target="../media/image1.png"/><Relationship Id="rId43" Type="http://schemas.openxmlformats.org/officeDocument/2006/relationships/hyperlink" Target="http://commons.wikimedia.org/wiki/File:Flag_icon_red_4.svg" TargetMode="External"/><Relationship Id="rId44" Type="http://schemas.openxmlformats.org/officeDocument/2006/relationships/image" Target="../media/image1.png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commons.wikimedia.org/wiki/File:Flag_icon_red_4.svg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commons.wikimedia.org/wiki/File:Flag_icon_red_4.svg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commons.wikimedia.org/wiki/File:Flag_icon_red_4.svg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commons.wikimedia.org/wiki/File:Flag_icon_red_4.svg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commons.wikimedia.org/wiki/File:Flag_icon_red_4.svg" TargetMode="External"/><Relationship Id="rId18" Type="http://schemas.openxmlformats.org/officeDocument/2006/relationships/image" Target="../media/image1.png"/><Relationship Id="rId19" Type="http://schemas.openxmlformats.org/officeDocument/2006/relationships/hyperlink" Target="http://commons.wikimedia.org/wiki/File:Flag_icon_red_4.svg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commons.wikimedia.org/wiki/File:Flag_icon_red_4.svg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commons.wikimedia.org/wiki/File:Flag_icon_red_4.svg" TargetMode="External"/><Relationship Id="rId24" Type="http://schemas.openxmlformats.org/officeDocument/2006/relationships/image" Target="../media/image1.png"/><Relationship Id="rId25" Type="http://schemas.openxmlformats.org/officeDocument/2006/relationships/hyperlink" Target="http://commons.wikimedia.org/wiki/File:Flag_icon_red_4.svg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commons.wikimedia.org/wiki/File:Flag_icon_red_4.sv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commons.wikimedia.org/wiki/File:Flag_icon_red_4.svg" TargetMode="External"/><Relationship Id="rId30" Type="http://schemas.openxmlformats.org/officeDocument/2006/relationships/image" Target="../media/image1.png"/><Relationship Id="rId31" Type="http://schemas.openxmlformats.org/officeDocument/2006/relationships/hyperlink" Target="http://commons.wikimedia.org/wiki/File:Flag_icon_red_4.svg" TargetMode="External"/><Relationship Id="rId32" Type="http://schemas.openxmlformats.org/officeDocument/2006/relationships/image" Target="../media/image1.png"/><Relationship Id="rId33" Type="http://schemas.openxmlformats.org/officeDocument/2006/relationships/hyperlink" Target="http://commons.wikimedia.org/wiki/File:Flag_icon_red_4.svg" TargetMode="External"/><Relationship Id="rId34" Type="http://schemas.openxmlformats.org/officeDocument/2006/relationships/image" Target="../media/image1.png"/><Relationship Id="rId35" Type="http://schemas.openxmlformats.org/officeDocument/2006/relationships/hyperlink" Target="http://commons.wikimedia.org/wiki/File:Flag_icon_red_4.svg" TargetMode="External"/><Relationship Id="rId36" Type="http://schemas.openxmlformats.org/officeDocument/2006/relationships/image" Target="../media/image1.png"/><Relationship Id="rId37" Type="http://schemas.openxmlformats.org/officeDocument/2006/relationships/hyperlink" Target="http://commons.wikimedia.org/wiki/File:Flag_icon_red_4.svg" TargetMode="External"/><Relationship Id="rId38" Type="http://schemas.openxmlformats.org/officeDocument/2006/relationships/image" Target="../media/image1.png"/><Relationship Id="rId39" Type="http://schemas.openxmlformats.org/officeDocument/2006/relationships/hyperlink" Target="http://commons.wikimedia.org/wiki/File:Flag_icon_red_4.svg" TargetMode="External"/><Relationship Id="rId40" Type="http://schemas.openxmlformats.org/officeDocument/2006/relationships/image" Target="../media/image1.png"/><Relationship Id="rId41" Type="http://schemas.openxmlformats.org/officeDocument/2006/relationships/hyperlink" Target="http://commons.wikimedia.org/wiki/File:Flag_icon_red_4.svg" TargetMode="External"/><Relationship Id="rId42" Type="http://schemas.openxmlformats.org/officeDocument/2006/relationships/image" Target="../media/image1.png"/><Relationship Id="rId43" Type="http://schemas.openxmlformats.org/officeDocument/2006/relationships/hyperlink" Target="http://commons.wikimedia.org/wiki/File:Flag_icon_red_4.svg" TargetMode="External"/><Relationship Id="rId44" Type="http://schemas.openxmlformats.org/officeDocument/2006/relationships/image" Target="../media/image1.png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commons.wikimedia.org/wiki/File:Flag_icon_red_4.svg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commons.wikimedia.org/wiki/File:Flag_icon_red_4.svg" TargetMode="External"/><Relationship Id="rId9" Type="http://schemas.openxmlformats.org/officeDocument/2006/relationships/image" Target="../media/image1.png"/><Relationship Id="rId10" Type="http://schemas.openxmlformats.org/officeDocument/2006/relationships/image" Target="../media/image2.wmf"/><Relationship Id="rId11" Type="http://schemas.openxmlformats.org/officeDocument/2006/relationships/hyperlink" Target="http://commons.wikimedia.org/wiki/File:Flag_icon_red_4.svg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commons.wikimedia.org/wiki/File:Flag_icon_red_4.svg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commons.wikimedia.org/wiki/File:Flag_icon_red_4.svg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wmf"/><Relationship Id="rId18" Type="http://schemas.openxmlformats.org/officeDocument/2006/relationships/hyperlink" Target="http://commons.wikimedia.org/wiki/File:Flag_icon_red_4.svg" TargetMode="External"/><Relationship Id="rId19" Type="http://schemas.openxmlformats.org/officeDocument/2006/relationships/image" Target="../media/image1.png"/><Relationship Id="rId20" Type="http://schemas.openxmlformats.org/officeDocument/2006/relationships/hyperlink" Target="http://commons.wikimedia.org/wiki/File:Flag_icon_red_4.svg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commons.wikimedia.org/wiki/File:Flag_icon_red_4.svg" TargetMode="External"/><Relationship Id="rId23" Type="http://schemas.openxmlformats.org/officeDocument/2006/relationships/image" Target="../media/image1.png"/><Relationship Id="rId24" Type="http://schemas.openxmlformats.org/officeDocument/2006/relationships/image" Target="../media/image2.wmf"/><Relationship Id="rId25" Type="http://schemas.openxmlformats.org/officeDocument/2006/relationships/hyperlink" Target="http://commons.wikimedia.org/wiki/File:Flag_icon_red_4.svg" TargetMode="External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lag_icon_red_4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ommons.wikimedia.org/wiki/File:Flag_icon_red_4.sv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commons.wikimedia.org/wiki/File:Flag_icon_red_4.sv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commons.wikimedia.org/wiki/File:Flag_icon_red_4.svg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060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ombinatorikus aukciók – Koordinálás – Feladatkiosztá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r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és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1D3-267B-42DD-98F5-85ABAC2D6B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62520" y="476280"/>
            <a:ext cx="82666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inimális team költséget nem sikerült elérni (ld. előb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llel aukciókból származó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team költség maga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mert a célpon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tti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kölcsönhat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igyelembe nem tudja ven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20360" y="1125360"/>
            <a:ext cx="5365440" cy="2792160"/>
            <a:chOff x="1620360" y="1125360"/>
            <a:chExt cx="5365440" cy="2792160"/>
          </a:xfrm>
        </p:grpSpPr>
        <p:grpSp>
          <p:nvGrpSpPr>
            <p:cNvPr id="173" name=""/>
            <p:cNvGrpSpPr/>
            <p:nvPr/>
          </p:nvGrpSpPr>
          <p:grpSpPr>
            <a:xfrm>
              <a:off x="1620360" y="1125360"/>
              <a:ext cx="5365440" cy="2792160"/>
              <a:chOff x="1620360" y="1125360"/>
              <a:chExt cx="5365440" cy="27921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690560" y="1125360"/>
                <a:ext cx="5295240" cy="2792160"/>
                <a:chOff x="1690560" y="1125360"/>
                <a:chExt cx="5295240" cy="2792160"/>
              </a:xfrm>
            </p:grpSpPr>
            <p:pic>
              <p:nvPicPr>
                <p:cNvPr id="175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0560" y="1917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0560" y="2925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87640" y="1917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4560" y="28540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87640" y="112536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7640" y="314280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1" name=""/>
              <p:cNvSpPr/>
              <p:nvPr/>
            </p:nvSpPr>
            <p:spPr>
              <a:xfrm>
                <a:off x="1620360" y="1556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620360" y="2565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3440" y="15566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16360" y="2565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291280" y="1773000"/>
              <a:ext cx="1223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02560" y="23493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122200" y="3141360"/>
              <a:ext cx="25923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22560" y="234936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13F-53D7-4B67-B0F9-946293EBEE5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619280" y="2637000"/>
            <a:ext cx="5006880" cy="846000"/>
            <a:chOff x="1619280" y="2637000"/>
            <a:chExt cx="5006880" cy="846000"/>
          </a:xfrm>
        </p:grpSpPr>
        <p:pic>
          <p:nvPicPr>
            <p:cNvPr id="1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19280" y="2852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484360" y="2852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227640" y="292572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4356000" y="2637000"/>
              <a:ext cx="3412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12360" y="47520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A71-C5DD-4AD5-80FE-1AD7BFB961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979640" y="2637000"/>
            <a:ext cx="5006880" cy="937080"/>
            <a:chOff x="1979640" y="2637000"/>
            <a:chExt cx="5006880" cy="937080"/>
          </a:xfrm>
        </p:grpSpPr>
        <p:grpSp>
          <p:nvGrpSpPr>
            <p:cNvPr id="196" name=""/>
            <p:cNvGrpSpPr/>
            <p:nvPr/>
          </p:nvGrpSpPr>
          <p:grpSpPr>
            <a:xfrm>
              <a:off x="1979640" y="2637000"/>
              <a:ext cx="5006880" cy="845280"/>
              <a:chOff x="1979640" y="2637000"/>
              <a:chExt cx="5006880" cy="845280"/>
            </a:xfrm>
          </p:grpSpPr>
          <p:pic>
            <p:nvPicPr>
              <p:cNvPr id="197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979640" y="285228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844720" y="285228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588000" y="292536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16360" y="2637000"/>
                <a:ext cx="341280" cy="77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2195280" y="321300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920" y="321300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48000" y="321300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41080" y="32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108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144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12360" y="47520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B25-B3CF-430B-9F7D-1190345649A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908000" y="2421000"/>
            <a:ext cx="5006880" cy="2087640"/>
            <a:chOff x="1908000" y="2421000"/>
            <a:chExt cx="5006880" cy="2087640"/>
          </a:xfrm>
        </p:grpSpPr>
        <p:grpSp>
          <p:nvGrpSpPr>
            <p:cNvPr id="209" name=""/>
            <p:cNvGrpSpPr/>
            <p:nvPr/>
          </p:nvGrpSpPr>
          <p:grpSpPr>
            <a:xfrm>
              <a:off x="1908000" y="2421000"/>
              <a:ext cx="5006880" cy="846000"/>
              <a:chOff x="1908000" y="2421000"/>
              <a:chExt cx="5006880" cy="846000"/>
            </a:xfrm>
          </p:grpSpPr>
          <p:pic>
            <p:nvPicPr>
              <p:cNvPr id="210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908000" y="2636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773080" y="2636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516360" y="2709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4720" y="242100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" name=""/>
            <p:cNvGrpSpPr/>
            <p:nvPr/>
          </p:nvGrpSpPr>
          <p:grpSpPr>
            <a:xfrm>
              <a:off x="3203640" y="3645000"/>
              <a:ext cx="1152360" cy="863640"/>
              <a:chOff x="3203640" y="3645000"/>
              <a:chExt cx="1152360" cy="863640"/>
            </a:xfrm>
          </p:grpSpPr>
          <p:sp>
            <p:nvSpPr>
              <p:cNvPr id="215" name=""/>
              <p:cNvSpPr/>
              <p:nvPr/>
            </p:nvSpPr>
            <p:spPr>
              <a:xfrm>
                <a:off x="3203640" y="3645000"/>
                <a:ext cx="1152360" cy="863640"/>
              </a:xfrm>
              <a:prstGeom prst="wedgeRoundRectCallout">
                <a:avLst>
                  <a:gd name="adj1" fmla="val 64185"/>
                  <a:gd name="adj2" fmla="val -113972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51240" y="3645000"/>
                <a:ext cx="799560" cy="824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-ra: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09440" y="3213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73080" y="3213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18160" y="3213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06160" y="4941000"/>
            <a:ext cx="80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célpont eléréséhez az adott helyzetéből kiindulv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költségű pályát lici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2360" y="47520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6F6-EE73-4307-B589-B5B2761E19A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195640" y="1844640"/>
            <a:ext cx="3077640" cy="1129320"/>
            <a:chOff x="2195640" y="1844640"/>
            <a:chExt cx="3077640" cy="1129320"/>
          </a:xfrm>
        </p:grpSpPr>
        <p:pic>
          <p:nvPicPr>
            <p:cNvPr id="22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195640" y="2060640"/>
              <a:ext cx="39816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060720" y="2060640"/>
              <a:ext cx="39780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4932360" y="1844640"/>
              <a:ext cx="340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196720" y="2636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8720" y="2636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61160" y="3716280"/>
            <a:ext cx="80233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kölcsönhatás  (2 + 2 =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A-t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B-t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mális pályaköltség elérni A-t és B-t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A-t és B-t 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A-t + Minimális pályaköltség elérni B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0920" y="47520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ozitiv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5157720"/>
            <a:ext cx="82090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EB2-A173-447F-8791-869B61D51A9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765080" y="1916280"/>
            <a:ext cx="4142160" cy="1129320"/>
            <a:chOff x="1765080" y="1916280"/>
            <a:chExt cx="4142160" cy="1129320"/>
          </a:xfrm>
        </p:grpSpPr>
        <p:pic>
          <p:nvPicPr>
            <p:cNvPr id="23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65440" y="2132280"/>
              <a:ext cx="39816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08720" y="220500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tretch/>
          </p:blipFill>
          <p:spPr>
            <a:xfrm>
              <a:off x="3637080" y="1916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765080" y="2708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10160" y="2708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48080" y="3645000"/>
            <a:ext cx="80384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gatív kölcsönhatás (2 + 2 =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B-t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C-t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mális pályaköltség elérni B-t és C-t: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B-t és C-t 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pályaköltség elérni B-t + Minimális pályaköltség elérni C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2360" y="4752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Negativ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CC3-1052-4D9F-BA76-7874182D8DA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835280" y="2349360"/>
            <a:ext cx="5006880" cy="2087640"/>
            <a:chOff x="1835280" y="2349360"/>
            <a:chExt cx="5006880" cy="2087640"/>
          </a:xfrm>
        </p:grpSpPr>
        <p:grpSp>
          <p:nvGrpSpPr>
            <p:cNvPr id="240" name=""/>
            <p:cNvGrpSpPr/>
            <p:nvPr/>
          </p:nvGrpSpPr>
          <p:grpSpPr>
            <a:xfrm>
              <a:off x="1835280" y="2349360"/>
              <a:ext cx="5006880" cy="846000"/>
              <a:chOff x="1835280" y="2349360"/>
              <a:chExt cx="5006880" cy="846000"/>
            </a:xfrm>
          </p:grpSpPr>
          <p:pic>
            <p:nvPicPr>
              <p:cNvPr id="241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835280" y="256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700360" y="256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443640" y="26380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2349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"/>
            <p:cNvGrpSpPr/>
            <p:nvPr/>
          </p:nvGrpSpPr>
          <p:grpSpPr>
            <a:xfrm>
              <a:off x="3130560" y="3573360"/>
              <a:ext cx="1152000" cy="863640"/>
              <a:chOff x="3130560" y="3573360"/>
              <a:chExt cx="1152000" cy="863640"/>
            </a:xfrm>
          </p:grpSpPr>
          <p:sp>
            <p:nvSpPr>
              <p:cNvPr id="246" name=""/>
              <p:cNvSpPr/>
              <p:nvPr/>
            </p:nvSpPr>
            <p:spPr>
              <a:xfrm>
                <a:off x="3130560" y="3573360"/>
                <a:ext cx="1152000" cy="863640"/>
              </a:xfrm>
              <a:prstGeom prst="wedgeRoundRectCallout">
                <a:avLst>
                  <a:gd name="adj1" fmla="val 64185"/>
                  <a:gd name="adj2" fmla="val -113972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77800" y="3573360"/>
                <a:ext cx="799560" cy="824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-ra: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36360" y="314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99640" y="314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45080" y="3141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10200" y="475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ozitiv és negativ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FB1-5941-469E-BA7F-8E326D288ED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08040" y="549360"/>
            <a:ext cx="64076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mplementáció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entralizál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kció lebonyolít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gy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kölcsönhatás nincs figyelembe vé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1F1-9285-4C54-A738-DBBA26E1906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19760" y="620640"/>
            <a:ext cx="797148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mind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élkötegre (=részhalmazra) licit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legfeljebb egy köteget nyer, az ágensek által elny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ok száma maximális, és másodlagosan az ágensek elny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tegekre adott licitek összege a lehető legkiseb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elnyert célpontokhoz kiszámítja a költség minimá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át és elkezdi követ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51F-78A2-4D1B-88BB-6EA5A466E50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29560" y="403200"/>
            <a:ext cx="80200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 Kölcsönhat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kötegben foglalt minden célpont eléréséhez az ado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lyzetéből kiindulva a minimális költségű pályát lici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92360" y="2060640"/>
            <a:ext cx="5006880" cy="2232000"/>
            <a:chOff x="1692360" y="2060640"/>
            <a:chExt cx="5006880" cy="2232000"/>
          </a:xfrm>
        </p:grpSpPr>
        <p:grpSp>
          <p:nvGrpSpPr>
            <p:cNvPr id="256" name=""/>
            <p:cNvGrpSpPr/>
            <p:nvPr/>
          </p:nvGrpSpPr>
          <p:grpSpPr>
            <a:xfrm>
              <a:off x="1692360" y="2060640"/>
              <a:ext cx="5006880" cy="846000"/>
              <a:chOff x="1692360" y="2060640"/>
              <a:chExt cx="5006880" cy="846000"/>
            </a:xfrm>
          </p:grpSpPr>
          <p:pic>
            <p:nvPicPr>
              <p:cNvPr id="257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692360" y="2276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557440" y="2276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300720" y="234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2060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1693440" y="285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56720" y="285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02160" y="2852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0720" y="3068640"/>
              <a:ext cx="2736720" cy="1224000"/>
            </a:xfrm>
            <a:prstGeom prst="wedgeRoundRectCallout">
              <a:avLst>
                <a:gd name="adj1" fmla="val 5222"/>
                <a:gd name="adj2" fmla="val -10317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840" y="3141720"/>
              <a:ext cx="2401200" cy="1067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-ra: 5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-ra: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e: 4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A,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e: 4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,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A,B,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A0B-E237-4929-AE35-163286D8E00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6360" y="692280"/>
            <a:ext cx="63957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ordinálás aukciókkal: Aukciók típus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llel auk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binatorikus auk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kvenciális auk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4A3-6838-4383-B1CE-51F1BD6664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2052000" y="836640"/>
            <a:ext cx="5902920" cy="5689440"/>
            <a:chOff x="2052000" y="836640"/>
            <a:chExt cx="5902920" cy="5689440"/>
          </a:xfrm>
        </p:grpSpPr>
        <p:grpSp>
          <p:nvGrpSpPr>
            <p:cNvPr id="267" name=""/>
            <p:cNvGrpSpPr/>
            <p:nvPr/>
          </p:nvGrpSpPr>
          <p:grpSpPr>
            <a:xfrm>
              <a:off x="2052000" y="836640"/>
              <a:ext cx="5365440" cy="2792160"/>
              <a:chOff x="2052000" y="836640"/>
              <a:chExt cx="5365440" cy="27921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22200" y="836640"/>
                <a:ext cx="5295240" cy="2792160"/>
                <a:chOff x="2122200" y="836640"/>
                <a:chExt cx="5295240" cy="2792160"/>
              </a:xfrm>
            </p:grpSpPr>
            <p:pic>
              <p:nvPicPr>
                <p:cNvPr id="26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22200" y="1628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22200" y="2636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19280" y="1628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200" y="2565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19280" y="83664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219280" y="285408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5" name=""/>
              <p:cNvSpPr/>
              <p:nvPr/>
            </p:nvSpPr>
            <p:spPr>
              <a:xfrm>
                <a:off x="2052000" y="1267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52000" y="227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5080" y="1267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48000" y="2276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985840" y="907920"/>
              <a:ext cx="1871640" cy="3529080"/>
            </a:xfrm>
            <a:prstGeom prst="wedgeRoundRectCallout">
              <a:avLst>
                <a:gd name="adj1" fmla="val 66032"/>
                <a:gd name="adj2" fmla="val -3825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0200" y="1052280"/>
              <a:ext cx="1584360" cy="329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 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 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1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B,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1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B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1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C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    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B,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B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1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C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1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B,C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 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,B,C,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-ra: 1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083280" y="2997000"/>
              <a:ext cx="1871640" cy="3529080"/>
              <a:chOff x="6083280" y="2997000"/>
              <a:chExt cx="1871640" cy="35290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83280" y="2997000"/>
                <a:ext cx="1871640" cy="3529080"/>
              </a:xfrm>
              <a:prstGeom prst="wedgeRoundRectCallout">
                <a:avLst>
                  <a:gd name="adj1" fmla="val -76717"/>
                  <a:gd name="adj2" fmla="val -40597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26200" y="3141360"/>
                <a:ext cx="1584000" cy="32907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ra:  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9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 8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 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 2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1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B,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B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C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    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B,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16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B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15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C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15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B,C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 15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A,B,C,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hu-HU" sz="1400" spc="-1" strike="noStrike">
                    <a:solidFill>
                      <a:srgbClr val="000000"/>
                    </a:solidFill>
                    <a:latin typeface="Arial"/>
                  </a:rPr>
                  <a:t>-ra: 17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324000" y="333360"/>
            <a:ext cx="73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A86-66D1-442F-ABDB-A730B9BD334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8360" y="1268280"/>
            <a:ext cx="1800000" cy="32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-ra: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 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1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C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,C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B,C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1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1268280"/>
            <a:ext cx="1584360" cy="32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-ra: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  1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   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B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-ra:  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 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ra: 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333360"/>
            <a:ext cx="73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00720" y="1341360"/>
            <a:ext cx="3600360" cy="350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3333cc"/>
                </a:solidFill>
                <a:latin typeface="Arial"/>
              </a:rPr>
              <a:t>C,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}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{</a:t>
            </a:r>
            <a:r>
              <a:rPr b="1" lang="hu-HU" sz="1400" spc="-1" strike="noStrike">
                <a:solidFill>
                  <a:srgbClr val="3333cc"/>
                </a:solidFill>
                <a:latin typeface="Arial"/>
              </a:rPr>
              <a:t>A,B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}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,B,C,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5DE-2CFC-4310-8728-8025EC83980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403280" y="1268280"/>
            <a:ext cx="5832720" cy="3600360"/>
            <a:chOff x="1403280" y="1268280"/>
            <a:chExt cx="5832720" cy="3600360"/>
          </a:xfrm>
        </p:grpSpPr>
        <p:sp>
          <p:nvSpPr>
            <p:cNvPr id="290" name=""/>
            <p:cNvSpPr/>
            <p:nvPr/>
          </p:nvSpPr>
          <p:spPr>
            <a:xfrm>
              <a:off x="4427640" y="1268280"/>
              <a:ext cx="2808360" cy="278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403280" y="1628640"/>
              <a:ext cx="5583960" cy="3240000"/>
              <a:chOff x="1403280" y="1628640"/>
              <a:chExt cx="5583960" cy="32400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621800" y="1628640"/>
                <a:ext cx="5365440" cy="2792160"/>
                <a:chOff x="1621800" y="1628640"/>
                <a:chExt cx="5365440" cy="279216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1692000" y="1628640"/>
                  <a:ext cx="5295240" cy="2792160"/>
                  <a:chOff x="1692000" y="1628640"/>
                  <a:chExt cx="5295240" cy="2792160"/>
                </a:xfrm>
              </p:grpSpPr>
              <p:pic>
                <p:nvPicPr>
                  <p:cNvPr id="294" name="" descr="">
                    <a:hlinkClick r:id="rId1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000" y="2420640"/>
                    <a:ext cx="3981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5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000" y="3428640"/>
                    <a:ext cx="3981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6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9080" y="2420640"/>
                    <a:ext cx="3981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7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00" y="3357360"/>
                    <a:ext cx="3981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9080" y="1628640"/>
                    <a:ext cx="340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9080" y="3646080"/>
                    <a:ext cx="340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00" name=""/>
                <p:cNvSpPr/>
                <p:nvPr/>
              </p:nvSpPr>
              <p:spPr>
                <a:xfrm>
                  <a:off x="1621800" y="205992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21800" y="3068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374880" y="205992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517800" y="306828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403280" y="2204640"/>
                <a:ext cx="4105080" cy="2664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324000" y="333360"/>
            <a:ext cx="73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49A-C312-44C7-8650-FB719C1CDB0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2320" y="333360"/>
            <a:ext cx="774288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ális kombinatorikus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eális kombinatorikus aukcióból adódó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am költség min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rt minden kölcönhatást vesz figyelembe a célpontok között, 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NP-nehé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robléma megoldá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icitek száma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exponenci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célpontok számáb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, -kommunikáció és a győztes kiszámítása költsé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04360" y="1341360"/>
            <a:ext cx="5365440" cy="2792160"/>
            <a:chOff x="1404360" y="1341360"/>
            <a:chExt cx="5365440" cy="2792160"/>
          </a:xfrm>
        </p:grpSpPr>
        <p:grpSp>
          <p:nvGrpSpPr>
            <p:cNvPr id="308" name=""/>
            <p:cNvGrpSpPr/>
            <p:nvPr/>
          </p:nvGrpSpPr>
          <p:grpSpPr>
            <a:xfrm>
              <a:off x="1404360" y="1341360"/>
              <a:ext cx="5365440" cy="2792160"/>
              <a:chOff x="1404360" y="1341360"/>
              <a:chExt cx="5365440" cy="279216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474560" y="1341360"/>
                <a:ext cx="5295240" cy="2792160"/>
                <a:chOff x="1474560" y="1341360"/>
                <a:chExt cx="5295240" cy="2792160"/>
              </a:xfrm>
            </p:grpSpPr>
            <p:pic>
              <p:nvPicPr>
                <p:cNvPr id="310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74560" y="2133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4560" y="3141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71640" y="2133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98560" y="30700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71640" y="134136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571640" y="335880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6" name=""/>
              <p:cNvSpPr/>
              <p:nvPr/>
            </p:nvSpPr>
            <p:spPr>
              <a:xfrm>
                <a:off x="1404360" y="177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04360" y="2781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57440" y="17726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00360" y="2781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5075280" y="1989000"/>
              <a:ext cx="1223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6560" y="25653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1906200" y="3357360"/>
              <a:ext cx="25923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906560" y="256536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469-F2A2-4E3C-8D7D-5100F07E9D7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27760" y="549360"/>
            <a:ext cx="79804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néhá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élkötegre (=halmazra) licit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legfeljebb egy köteget nyer, 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ensek által elnyert célok száma maximális, 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odlagosan az ágensek elnyert kötegekre adott licitek össz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hető legkiseb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elnyert célpontokhoz kiszámítja a költség minimá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át és elkezdi követ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binatorikus aukcióból adódó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am költség alacso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szubopt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e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, -kommunikáció és a győztes kiszámítása még min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viszonylag) költsé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6D1-E432-4B2B-B60C-0E10CE08C94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29920" y="549360"/>
            <a:ext cx="82321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cit stratégi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lyik kötegre licitálni nagyban feltáratlan, mert egy jó köteggenerálá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atégia feladatfügg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ó köteggenerálási stratégi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is számú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teget gener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oldástere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fed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tegeket gener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övedelmez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tegeket gener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tegeke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tékony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ener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D1D-46A5-44EB-9ECD-EB29309484D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60080" y="620640"/>
            <a:ext cx="71254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ómén-független köteggener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uta köteggenerálás esetén minden kötegre licitál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ÁROM-KOMBIN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 vagy kevesebb célpontot tartalmazó kötegre licit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jegyzés: Lehet, hogy az összes célpont hozzárendel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lesz lehetsé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4FF-2E3E-4FB6-A4B3-E20FF78246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920" y="476280"/>
            <a:ext cx="79714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ómén-függő köteggener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kos köteggenerálás célpontok klasztereire licitá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RAPH-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djük az összes célpontot tartalmazó köteg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áljuk az új köte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pítsünk egy teljes gráfot, melynek csúcsai a kötegb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ok és élek költsége a csúcsok közötti pályaköltsé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gjuk a gráfot ketté a maximális vágás (közelítése) ment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mételjük az eljárást (kétszer) mindkét részgráf célpontj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set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933-5165-42F9-B199-A290181F35B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116000" y="1700280"/>
            <a:ext cx="6769080" cy="2952720"/>
            <a:chOff x="1116000" y="1700280"/>
            <a:chExt cx="6769080" cy="2952720"/>
          </a:xfrm>
        </p:grpSpPr>
        <p:grpSp>
          <p:nvGrpSpPr>
            <p:cNvPr id="329" name=""/>
            <p:cNvGrpSpPr/>
            <p:nvPr/>
          </p:nvGrpSpPr>
          <p:grpSpPr>
            <a:xfrm>
              <a:off x="1908000" y="2421000"/>
              <a:ext cx="5295960" cy="1565280"/>
              <a:chOff x="1908000" y="2421000"/>
              <a:chExt cx="5295960" cy="1565280"/>
            </a:xfrm>
          </p:grpSpPr>
          <p:pic>
            <p:nvPicPr>
              <p:cNvPr id="330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908000" y="2421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908000" y="3429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805440" y="2421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732360" y="3357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4" name=""/>
            <p:cNvSpPr/>
            <p:nvPr/>
          </p:nvSpPr>
          <p:spPr>
            <a:xfrm>
              <a:off x="1116000" y="1700280"/>
              <a:ext cx="6769080" cy="295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11-3987-4FFC-AF4D-7D71F89589E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116000" y="1557360"/>
            <a:ext cx="6769080" cy="2952720"/>
            <a:chOff x="1116000" y="1557360"/>
            <a:chExt cx="6769080" cy="2952720"/>
          </a:xfrm>
        </p:grpSpPr>
        <p:grpSp>
          <p:nvGrpSpPr>
            <p:cNvPr id="337" name=""/>
            <p:cNvGrpSpPr/>
            <p:nvPr/>
          </p:nvGrpSpPr>
          <p:grpSpPr>
            <a:xfrm>
              <a:off x="1116000" y="1557360"/>
              <a:ext cx="6769080" cy="2952720"/>
              <a:chOff x="1116000" y="1557360"/>
              <a:chExt cx="6769080" cy="29527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908000" y="2278080"/>
                <a:ext cx="5295960" cy="1565280"/>
                <a:chOff x="1908000" y="2278080"/>
                <a:chExt cx="5295960" cy="1565280"/>
              </a:xfrm>
            </p:grpSpPr>
            <p:pic>
              <p:nvPicPr>
                <p:cNvPr id="339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227808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08000" y="328608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05440" y="227808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32360" y="321480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43" name=""/>
              <p:cNvSpPr/>
              <p:nvPr/>
            </p:nvSpPr>
            <p:spPr>
              <a:xfrm>
                <a:off x="1116000" y="1557360"/>
                <a:ext cx="6769080" cy="295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124000" y="26384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24000" y="263844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4000" y="328608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661080" y="2638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123640" y="2638440"/>
              <a:ext cx="4537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2123640" y="2638080"/>
              <a:ext cx="4537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F63-CCF5-4A2A-8B07-A701FBE3D29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71760" y="692280"/>
            <a:ext cx="73040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licitje másoktól független és egyidej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pontra legkevesebbet licitáló ágens n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meghatározza az elnyert célpontokat összeköt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költségű pályát és elkezdi követ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B97-E823-48EA-B6BE-65E2F060696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042920" y="1413000"/>
            <a:ext cx="6769080" cy="2952720"/>
            <a:chOff x="1042920" y="1413000"/>
            <a:chExt cx="6769080" cy="2952720"/>
          </a:xfrm>
        </p:grpSpPr>
        <p:grpSp>
          <p:nvGrpSpPr>
            <p:cNvPr id="352" name=""/>
            <p:cNvGrpSpPr/>
            <p:nvPr/>
          </p:nvGrpSpPr>
          <p:grpSpPr>
            <a:xfrm>
              <a:off x="1042920" y="1413000"/>
              <a:ext cx="6769080" cy="2952720"/>
              <a:chOff x="1042920" y="1413000"/>
              <a:chExt cx="6769080" cy="295272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1042920" y="1413000"/>
                <a:ext cx="6769080" cy="2952720"/>
                <a:chOff x="1042920" y="1413000"/>
                <a:chExt cx="6769080" cy="29527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1834920" y="2133720"/>
                  <a:ext cx="5295960" cy="1565280"/>
                  <a:chOff x="1834920" y="2133720"/>
                  <a:chExt cx="5295960" cy="1565280"/>
                </a:xfrm>
              </p:grpSpPr>
              <p:pic>
                <p:nvPicPr>
                  <p:cNvPr id="355" name="" descr="">
                    <a:hlinkClick r:id="rId1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4920" y="213372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4920" y="314172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7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360" y="213372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280" y="307044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59" name=""/>
                <p:cNvSpPr/>
                <p:nvPr/>
              </p:nvSpPr>
              <p:spPr>
                <a:xfrm>
                  <a:off x="1042920" y="1413000"/>
                  <a:ext cx="6769080" cy="2952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2050920" y="24940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50920" y="2494080"/>
                <a:ext cx="45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50920" y="3141720"/>
                <a:ext cx="45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588000" y="2493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050560" y="2494080"/>
                <a:ext cx="4537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50560" y="2493720"/>
                <a:ext cx="4537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4067280" y="1702080"/>
              <a:ext cx="504720" cy="22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02200" y="4556160"/>
            <a:ext cx="764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gás = két halmaz, ami a gráf csúcsait particion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ximális vágás = maxcut = a két csúcshalmazt összekötő 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eit maximálizáló vág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ximális vágás megkeresése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NP-nehéz, approximálni k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DE5-84B5-44DB-A1CD-A1164A4A41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042920" y="1484280"/>
            <a:ext cx="6769080" cy="2952720"/>
            <a:chOff x="1042920" y="1484280"/>
            <a:chExt cx="6769080" cy="2952720"/>
          </a:xfrm>
        </p:grpSpPr>
        <p:grpSp>
          <p:nvGrpSpPr>
            <p:cNvPr id="370" name=""/>
            <p:cNvGrpSpPr/>
            <p:nvPr/>
          </p:nvGrpSpPr>
          <p:grpSpPr>
            <a:xfrm>
              <a:off x="1042920" y="1484280"/>
              <a:ext cx="6769080" cy="2952720"/>
              <a:chOff x="1042920" y="1484280"/>
              <a:chExt cx="6769080" cy="2952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1834920" y="2205000"/>
                <a:ext cx="5295960" cy="1565280"/>
                <a:chOff x="1834920" y="2205000"/>
                <a:chExt cx="5295960" cy="1565280"/>
              </a:xfrm>
            </p:grpSpPr>
            <p:pic>
              <p:nvPicPr>
                <p:cNvPr id="372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34920" y="220500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34920" y="321300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32360" y="220500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59280" y="3141720"/>
                  <a:ext cx="39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6" name=""/>
              <p:cNvSpPr/>
              <p:nvPr/>
            </p:nvSpPr>
            <p:spPr>
              <a:xfrm>
                <a:off x="1042920" y="1484280"/>
                <a:ext cx="6769080" cy="295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474560" y="2060640"/>
              <a:ext cx="11527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7640" y="2060640"/>
              <a:ext cx="11527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08B-85CB-4DF0-93CF-020DEE16D77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116000" y="1557360"/>
            <a:ext cx="6769080" cy="2952720"/>
            <a:chOff x="1116000" y="1557360"/>
            <a:chExt cx="6769080" cy="2952720"/>
          </a:xfrm>
        </p:grpSpPr>
        <p:grpSp>
          <p:nvGrpSpPr>
            <p:cNvPr id="381" name=""/>
            <p:cNvGrpSpPr/>
            <p:nvPr/>
          </p:nvGrpSpPr>
          <p:grpSpPr>
            <a:xfrm>
              <a:off x="1116000" y="1557360"/>
              <a:ext cx="6769080" cy="2952720"/>
              <a:chOff x="1116000" y="1557360"/>
              <a:chExt cx="6769080" cy="29527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1116000" y="1557360"/>
                <a:ext cx="6769080" cy="2952720"/>
                <a:chOff x="1116000" y="1557360"/>
                <a:chExt cx="6769080" cy="295272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1908000" y="2278080"/>
                  <a:ext cx="5295960" cy="1565280"/>
                  <a:chOff x="1908000" y="2278080"/>
                  <a:chExt cx="5295960" cy="1565280"/>
                </a:xfrm>
              </p:grpSpPr>
              <p:pic>
                <p:nvPicPr>
                  <p:cNvPr id="384" name="" descr="">
                    <a:hlinkClick r:id="rId1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8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5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286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6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5440" y="2278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7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360" y="321480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88" name=""/>
                <p:cNvSpPr/>
                <p:nvPr/>
              </p:nvSpPr>
              <p:spPr>
                <a:xfrm>
                  <a:off x="1116000" y="1557360"/>
                  <a:ext cx="6769080" cy="2952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1547640" y="213372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00720" y="213372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124000" y="2710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32720" y="26384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127-039D-41A5-A744-AC510DA0C88D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116000" y="1484280"/>
            <a:ext cx="6769080" cy="2952720"/>
            <a:chOff x="1116000" y="1484280"/>
            <a:chExt cx="6769080" cy="2952720"/>
          </a:xfrm>
        </p:grpSpPr>
        <p:grpSp>
          <p:nvGrpSpPr>
            <p:cNvPr id="395" name=""/>
            <p:cNvGrpSpPr/>
            <p:nvPr/>
          </p:nvGrpSpPr>
          <p:grpSpPr>
            <a:xfrm>
              <a:off x="1116000" y="1484280"/>
              <a:ext cx="6769080" cy="2952720"/>
              <a:chOff x="1116000" y="1484280"/>
              <a:chExt cx="6769080" cy="29527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116000" y="1484280"/>
                <a:ext cx="6769080" cy="2952720"/>
                <a:chOff x="1116000" y="1484280"/>
                <a:chExt cx="6769080" cy="295272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116000" y="1484280"/>
                  <a:ext cx="6769080" cy="2952720"/>
                  <a:chOff x="1116000" y="1484280"/>
                  <a:chExt cx="6769080" cy="29527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1908000" y="2205000"/>
                    <a:ext cx="5295960" cy="1565280"/>
                    <a:chOff x="1908000" y="2205000"/>
                    <a:chExt cx="5295960" cy="1565280"/>
                  </a:xfrm>
                </p:grpSpPr>
                <p:pic>
                  <p:nvPicPr>
                    <p:cNvPr id="399" name="" descr="">
                      <a:hlinkClick r:id="rId1"/>
                    </p:cNvPr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2205000"/>
                      <a:ext cx="39852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" descr="">
                      <a:hlinkClick r:id="rId3"/>
                    </p:cNvPr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3213000"/>
                      <a:ext cx="39852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" descr="">
                      <a:hlinkClick r:id="rId5"/>
                    </p:cNvPr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5440" y="2205000"/>
                      <a:ext cx="39852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2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32360" y="3141720"/>
                      <a:ext cx="39852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403" name=""/>
                  <p:cNvSpPr/>
                  <p:nvPr/>
                </p:nvSpPr>
                <p:spPr>
                  <a:xfrm>
                    <a:off x="1116000" y="1484280"/>
                    <a:ext cx="6769080" cy="2952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>
                  <a:off x="1547640" y="2060640"/>
                  <a:ext cx="1152720" cy="1800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300720" y="2060640"/>
                  <a:ext cx="1152720" cy="1800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2124000" y="263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32720" y="256536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979640" y="2852640"/>
              <a:ext cx="50472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6720" y="2852640"/>
              <a:ext cx="576360" cy="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719-0DF8-4D50-AFA1-7B90F30D2C17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1042920" y="1628640"/>
            <a:ext cx="6769080" cy="2952720"/>
            <a:chOff x="1042920" y="1628640"/>
            <a:chExt cx="6769080" cy="2952720"/>
          </a:xfrm>
        </p:grpSpPr>
        <p:grpSp>
          <p:nvGrpSpPr>
            <p:cNvPr id="412" name=""/>
            <p:cNvGrpSpPr/>
            <p:nvPr/>
          </p:nvGrpSpPr>
          <p:grpSpPr>
            <a:xfrm>
              <a:off x="1042920" y="1628640"/>
              <a:ext cx="6769080" cy="2952720"/>
              <a:chOff x="1042920" y="1628640"/>
              <a:chExt cx="6769080" cy="29527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042920" y="1628640"/>
                <a:ext cx="6769080" cy="2952720"/>
                <a:chOff x="1042920" y="1628640"/>
                <a:chExt cx="6769080" cy="295272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1834920" y="2349360"/>
                  <a:ext cx="5295960" cy="1565280"/>
                  <a:chOff x="1834920" y="2349360"/>
                  <a:chExt cx="5295960" cy="1565280"/>
                </a:xfrm>
              </p:grpSpPr>
              <p:pic>
                <p:nvPicPr>
                  <p:cNvPr id="415" name="" descr="">
                    <a:hlinkClick r:id="rId1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4920" y="234936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4920" y="335736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7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360" y="234936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280" y="3286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19" name=""/>
                <p:cNvSpPr/>
                <p:nvPr/>
              </p:nvSpPr>
              <p:spPr>
                <a:xfrm>
                  <a:off x="1042920" y="1628640"/>
                  <a:ext cx="6769080" cy="2952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1474560" y="220500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27640" y="220500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763640" y="2349360"/>
              <a:ext cx="5745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63640" y="3284640"/>
              <a:ext cx="5745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88000" y="2349360"/>
              <a:ext cx="57492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14920" y="3284640"/>
              <a:ext cx="57492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E42-BF6C-4CFA-8A72-24E6684E14C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187280" y="1341360"/>
            <a:ext cx="6769080" cy="2952720"/>
            <a:chOff x="1187280" y="1341360"/>
            <a:chExt cx="6769080" cy="2952720"/>
          </a:xfrm>
        </p:grpSpPr>
        <p:grpSp>
          <p:nvGrpSpPr>
            <p:cNvPr id="428" name=""/>
            <p:cNvGrpSpPr/>
            <p:nvPr/>
          </p:nvGrpSpPr>
          <p:grpSpPr>
            <a:xfrm>
              <a:off x="1187280" y="1341360"/>
              <a:ext cx="6769080" cy="2952720"/>
              <a:chOff x="1187280" y="1341360"/>
              <a:chExt cx="6769080" cy="29527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1187280" y="1341360"/>
                <a:ext cx="6769080" cy="2952720"/>
                <a:chOff x="1187280" y="1341360"/>
                <a:chExt cx="6769080" cy="29527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1979280" y="2062080"/>
                  <a:ext cx="5295960" cy="1565280"/>
                  <a:chOff x="1979280" y="2062080"/>
                  <a:chExt cx="5295960" cy="1565280"/>
                </a:xfrm>
              </p:grpSpPr>
              <p:pic>
                <p:nvPicPr>
                  <p:cNvPr id="431" name="" descr="">
                    <a:hlinkClick r:id="rId1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280" y="2062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2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280" y="3070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3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6720" y="206208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4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03640" y="2998800"/>
                    <a:ext cx="39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35" name=""/>
                <p:cNvSpPr/>
                <p:nvPr/>
              </p:nvSpPr>
              <p:spPr>
                <a:xfrm>
                  <a:off x="1187280" y="1341360"/>
                  <a:ext cx="6769080" cy="2952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618920" y="191772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72000" y="1917720"/>
                <a:ext cx="115272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908000" y="2062080"/>
              <a:ext cx="5745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08000" y="2997360"/>
              <a:ext cx="57456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32360" y="2062080"/>
              <a:ext cx="57492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59280" y="2997360"/>
              <a:ext cx="57492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11280" y="4653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ábbi kötegekre kell licitáln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{A}, {B}, {C}, {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{A,B}, {C,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{A,B,C,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 - Dómén-függő köteggener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D13-C5BF-4622-A290-83F38010888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4520" y="476280"/>
            <a:ext cx="66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érletek ismert tere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 ágens, ismert terep, 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 klaszter á 4 cél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84360" y="2421000"/>
          <a:ext cx="8065800" cy="2374920"/>
        </p:xfrm>
        <a:graphic>
          <a:graphicData uri="http://schemas.openxmlformats.org/drawingml/2006/table">
            <a:tbl>
              <a:tblPr/>
              <a:tblGrid>
                <a:gridCol w="4321080"/>
                <a:gridCol w="1224000"/>
                <a:gridCol w="252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it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m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lel egyedi auk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binatorikus aukció + HÁROM-KOMBINÁ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0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kombinatorikus aukció + GRAPH-C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ális (MIP) = ideális kombinatorikus auk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iszkretizálás miat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5B6-6541-4C73-87F9-ACF348254E50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2800" y="476280"/>
            <a:ext cx="57830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mplementáció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entrálizál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tisztázat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teggenerál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lehet NP-nehé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/ köteg: ok (NP-nehé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kció lebonyolit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NP-nehé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nagyon j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optimá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 (minden) összhang figyelembe vé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ználjuk ügyes köteggenerálá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NP-nehéz problémák approximáció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213-65EB-4A4B-B4CD-1F56D1F7146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95280" y="476280"/>
            <a:ext cx="3600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arallel Auk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mplementáció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entralizál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kció lebonyolítás: 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gy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112536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ombinatorikus Auk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mplementáció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entralizálás: tisztázat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kció lebonyolítás: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dr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“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opt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443700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kvenciális aukció jó középút a parallel és a kombinatorikus aukció közö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494-F2E1-4CC0-AED1-5FC7B77CCF6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12200" y="476280"/>
            <a:ext cx="78022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hány licitkör elteltével ágensek minden célpontot elnyer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Körönként csak egy célpont kell 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licitkörben minden ágens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az össze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mások által nem elny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ra licitá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yőztes az ágensekre és a célpontokra nézve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minimális lici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 licitáló ágens elnyeri az adott célpont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elnyert célpontokhoz kiszámítja a költség minimá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át és elkezdi követ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9DD-7875-401C-B5C8-81F54F80C28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célpont eléréséhez az adott helyzetéből kiindulva a minimális költségű pályát lici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88720" y="1268280"/>
            <a:ext cx="5366160" cy="2792160"/>
            <a:chOff x="1188720" y="1268280"/>
            <a:chExt cx="5366160" cy="2792160"/>
          </a:xfrm>
        </p:grpSpPr>
        <p:grpSp>
          <p:nvGrpSpPr>
            <p:cNvPr id="46" name=""/>
            <p:cNvGrpSpPr/>
            <p:nvPr/>
          </p:nvGrpSpPr>
          <p:grpSpPr>
            <a:xfrm>
              <a:off x="1258920" y="1268280"/>
              <a:ext cx="5295960" cy="2792160"/>
              <a:chOff x="1258920" y="1268280"/>
              <a:chExt cx="5295960" cy="2792160"/>
            </a:xfrm>
          </p:grpSpPr>
          <p:pic>
            <p:nvPicPr>
              <p:cNvPr id="47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258920" y="206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258920" y="3068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156360" y="206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083280" y="2997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56360" y="126828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56360" y="328572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1188720" y="1699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88720" y="2708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1800" y="1699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84720" y="2708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D6E-D01B-4CE2-B4A9-CABE3CF924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56120" y="476280"/>
            <a:ext cx="78570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z új célpontra az adott pozíciójából kiinduló 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s célpont meglátogatásához szükséges minimális költség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ában jelentkező költségnövekményt licitálja, ha a célpont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ténetesen ő nyerné meg.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dSumPat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763640" y="1773360"/>
            <a:ext cx="5006880" cy="2086920"/>
            <a:chOff x="1763640" y="1773360"/>
            <a:chExt cx="5006880" cy="2086920"/>
          </a:xfrm>
        </p:grpSpPr>
        <p:grpSp>
          <p:nvGrpSpPr>
            <p:cNvPr id="453" name=""/>
            <p:cNvGrpSpPr/>
            <p:nvPr/>
          </p:nvGrpSpPr>
          <p:grpSpPr>
            <a:xfrm>
              <a:off x="1763640" y="1773360"/>
              <a:ext cx="5006880" cy="845280"/>
              <a:chOff x="1763640" y="1773360"/>
              <a:chExt cx="5006880" cy="845280"/>
            </a:xfrm>
          </p:grpSpPr>
          <p:pic>
            <p:nvPicPr>
              <p:cNvPr id="454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763640" y="1988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628720" y="1988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372000" y="206172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00360" y="1773360"/>
                <a:ext cx="341280" cy="77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3058920" y="2997000"/>
              <a:ext cx="1152000" cy="863280"/>
              <a:chOff x="3058920" y="2997000"/>
              <a:chExt cx="1152000" cy="863280"/>
            </a:xfrm>
          </p:grpSpPr>
          <p:sp>
            <p:nvSpPr>
              <p:cNvPr id="459" name=""/>
              <p:cNvSpPr/>
              <p:nvPr/>
            </p:nvSpPr>
            <p:spPr>
              <a:xfrm>
                <a:off x="3058920" y="2997000"/>
                <a:ext cx="1152000" cy="863280"/>
              </a:xfrm>
              <a:prstGeom prst="wedgeRoundRectCallout">
                <a:avLst>
                  <a:gd name="adj1" fmla="val 64185"/>
                  <a:gd name="adj2" fmla="val -113972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06160" y="2997000"/>
                <a:ext cx="799560" cy="824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-ra: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-re: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764720" y="2565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8000" y="2565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73440" y="2565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1C6-E8EB-46F0-8254-2E5516F5AD3F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1835280" y="1916280"/>
            <a:ext cx="5006880" cy="1272240"/>
            <a:chOff x="1835280" y="1916280"/>
            <a:chExt cx="5006880" cy="1272240"/>
          </a:xfrm>
        </p:grpSpPr>
        <p:grpSp>
          <p:nvGrpSpPr>
            <p:cNvPr id="465" name=""/>
            <p:cNvGrpSpPr/>
            <p:nvPr/>
          </p:nvGrpSpPr>
          <p:grpSpPr>
            <a:xfrm>
              <a:off x="1835280" y="2059200"/>
              <a:ext cx="5006880" cy="846000"/>
              <a:chOff x="1835280" y="2059200"/>
              <a:chExt cx="5006880" cy="846000"/>
            </a:xfrm>
          </p:grpSpPr>
          <p:pic>
            <p:nvPicPr>
              <p:cNvPr id="466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835280" y="22748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700360" y="22748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443640" y="23479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205920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0" name=""/>
            <p:cNvSpPr/>
            <p:nvPr/>
          </p:nvSpPr>
          <p:spPr>
            <a:xfrm>
              <a:off x="1836360" y="2851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99640" y="2851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45080" y="2851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11280" y="1916280"/>
              <a:ext cx="2879280" cy="107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86280" y="4437000"/>
            <a:ext cx="842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z új célpontra az adott pozíciójából kiinduló 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az összes célpont meglátogatásához szükséges minimális költség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pályában jelentkező költségnövekmény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icitálja, ha a célpont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ténetesen ő nyerné meg.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dSumPat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2720" y="4762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C26-4AFB-4F21-B535-EE1031BABF4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835280" y="1916280"/>
            <a:ext cx="5006880" cy="1944000"/>
            <a:chOff x="1835280" y="1916280"/>
            <a:chExt cx="5006880" cy="1944000"/>
          </a:xfrm>
        </p:grpSpPr>
        <p:grpSp>
          <p:nvGrpSpPr>
            <p:cNvPr id="477" name=""/>
            <p:cNvGrpSpPr/>
            <p:nvPr/>
          </p:nvGrpSpPr>
          <p:grpSpPr>
            <a:xfrm>
              <a:off x="1835280" y="1987200"/>
              <a:ext cx="5006880" cy="846000"/>
              <a:chOff x="1835280" y="1987200"/>
              <a:chExt cx="5006880" cy="846000"/>
            </a:xfrm>
          </p:grpSpPr>
          <p:pic>
            <p:nvPicPr>
              <p:cNvPr id="478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835280" y="22028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700360" y="22028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443640" y="22759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2000" y="198720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" name=""/>
            <p:cNvSpPr/>
            <p:nvPr/>
          </p:nvSpPr>
          <p:spPr>
            <a:xfrm>
              <a:off x="3130560" y="3211200"/>
              <a:ext cx="1152360" cy="649080"/>
            </a:xfrm>
            <a:prstGeom prst="wedgeRoundRectCallout">
              <a:avLst>
                <a:gd name="adj1" fmla="val 64185"/>
                <a:gd name="adj2" fmla="val -1350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8160" y="3211200"/>
              <a:ext cx="799560" cy="580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ra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-re: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36360" y="2779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000" y="2779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45080" y="2779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8200" y="1916280"/>
              <a:ext cx="2880000" cy="107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12720" y="4762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Kölcsön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3400" y="4437000"/>
            <a:ext cx="785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z új célpontra az adott pozíciójából kiinduló 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s célpont meglátogatásához szükséges minimális költség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ában jelentkező költségnövekményt licitálja, ha a célpont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ténetesen ő nyerné meg.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dSumPat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2E5-AD0F-40BB-B73F-D9E3D04B88E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764720" y="1628640"/>
            <a:ext cx="5365440" cy="3168720"/>
            <a:chOff x="1764720" y="1628640"/>
            <a:chExt cx="5365440" cy="3168720"/>
          </a:xfrm>
        </p:grpSpPr>
        <p:grpSp>
          <p:nvGrpSpPr>
            <p:cNvPr id="491" name=""/>
            <p:cNvGrpSpPr/>
            <p:nvPr/>
          </p:nvGrpSpPr>
          <p:grpSpPr>
            <a:xfrm>
              <a:off x="1764720" y="1628640"/>
              <a:ext cx="5365440" cy="2792160"/>
              <a:chOff x="1764720" y="1628640"/>
              <a:chExt cx="5365440" cy="27921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834920" y="1628640"/>
                <a:ext cx="5295240" cy="2792160"/>
                <a:chOff x="1834920" y="1628640"/>
                <a:chExt cx="5295240" cy="2792160"/>
              </a:xfrm>
            </p:grpSpPr>
            <p:pic>
              <p:nvPicPr>
                <p:cNvPr id="493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34920" y="2420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34920" y="3428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32000" y="242064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58920" y="335736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000" y="162864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000" y="364608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9" name=""/>
              <p:cNvSpPr/>
              <p:nvPr/>
            </p:nvSpPr>
            <p:spPr>
              <a:xfrm>
                <a:off x="1764720" y="2059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764720" y="3068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17800" y="2059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60720" y="3068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2698560" y="1773000"/>
              <a:ext cx="1871640" cy="1224000"/>
            </a:xfrm>
            <a:prstGeom prst="wedgeRoundRectCallout">
              <a:avLst>
                <a:gd name="adj1" fmla="val 66032"/>
                <a:gd name="adj2" fmla="val -2211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42920" y="1844280"/>
              <a:ext cx="1584360" cy="1067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8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(9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-ra:  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 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(37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98560" y="3573360"/>
              <a:ext cx="1871640" cy="1224000"/>
            </a:xfrm>
            <a:prstGeom prst="wedgeRoundRectCallout">
              <a:avLst>
                <a:gd name="adj1" fmla="val 67810"/>
                <a:gd name="adj2" fmla="val -31842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14560" y="3644640"/>
              <a:ext cx="1584360" cy="1067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9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(8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 (4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-ra:  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 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F13-F4BD-4CB3-B55D-A72E84B9B1FD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1548720" y="1268280"/>
            <a:ext cx="5542560" cy="3068640"/>
            <a:chOff x="1548720" y="1268280"/>
            <a:chExt cx="5542560" cy="3068640"/>
          </a:xfrm>
        </p:grpSpPr>
        <p:grpSp>
          <p:nvGrpSpPr>
            <p:cNvPr id="509" name=""/>
            <p:cNvGrpSpPr/>
            <p:nvPr/>
          </p:nvGrpSpPr>
          <p:grpSpPr>
            <a:xfrm>
              <a:off x="1548720" y="1457280"/>
              <a:ext cx="5365440" cy="2792160"/>
              <a:chOff x="1548720" y="1457280"/>
              <a:chExt cx="5365440" cy="279216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1618920" y="1457280"/>
                <a:ext cx="5295240" cy="2792160"/>
                <a:chOff x="1618920" y="1457280"/>
                <a:chExt cx="5295240" cy="2792160"/>
              </a:xfrm>
            </p:grpSpPr>
            <p:pic>
              <p:nvPicPr>
                <p:cNvPr id="511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8920" y="2249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18920" y="3257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16000" y="2249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442920" y="3186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16000" y="145728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16000" y="347472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7" name=""/>
              <p:cNvSpPr/>
              <p:nvPr/>
            </p:nvSpPr>
            <p:spPr>
              <a:xfrm>
                <a:off x="1548720" y="1888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48720" y="2896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301800" y="18885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44720" y="2896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482560" y="1601640"/>
              <a:ext cx="1871640" cy="1008000"/>
            </a:xfrm>
            <a:prstGeom prst="wedgeRoundRectCallout">
              <a:avLst>
                <a:gd name="adj1" fmla="val 66032"/>
                <a:gd name="adj2" fmla="val -1614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6920" y="1672920"/>
              <a:ext cx="1584360" cy="824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(107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(10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-ra:  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82560" y="3402000"/>
              <a:ext cx="1871640" cy="934920"/>
            </a:xfrm>
            <a:prstGeom prst="wedgeRoundRectCallout">
              <a:avLst>
                <a:gd name="adj1" fmla="val 67810"/>
                <a:gd name="adj2" fmla="val -2623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98560" y="3473280"/>
              <a:ext cx="1584360" cy="824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(9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-ra:  (8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-ra:   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8920" y="1268280"/>
              <a:ext cx="2592360" cy="162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511-B91A-4CA8-B769-1215140F1623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1548720" y="1700280"/>
            <a:ext cx="5542560" cy="2880720"/>
            <a:chOff x="1548720" y="1700280"/>
            <a:chExt cx="5542560" cy="2880720"/>
          </a:xfrm>
        </p:grpSpPr>
        <p:grpSp>
          <p:nvGrpSpPr>
            <p:cNvPr id="528" name=""/>
            <p:cNvGrpSpPr/>
            <p:nvPr/>
          </p:nvGrpSpPr>
          <p:grpSpPr>
            <a:xfrm>
              <a:off x="1548720" y="1888920"/>
              <a:ext cx="5365440" cy="2559960"/>
              <a:chOff x="1548720" y="1888920"/>
              <a:chExt cx="5365440" cy="255996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1618920" y="1888920"/>
                <a:ext cx="5295240" cy="2559960"/>
                <a:chOff x="1618920" y="1888920"/>
                <a:chExt cx="5295240" cy="2559960"/>
              </a:xfrm>
            </p:grpSpPr>
            <p:pic>
              <p:nvPicPr>
                <p:cNvPr id="530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8920" y="2615040"/>
                  <a:ext cx="398160" cy="51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18920" y="3539160"/>
                  <a:ext cx="398160" cy="51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16000" y="2615040"/>
                  <a:ext cx="398160" cy="51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442920" y="3474000"/>
                  <a:ext cx="398160" cy="51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16000" y="1888920"/>
                  <a:ext cx="340920" cy="71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16000" y="3738600"/>
                  <a:ext cx="340920" cy="710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6" name=""/>
              <p:cNvSpPr/>
              <p:nvPr/>
            </p:nvSpPr>
            <p:spPr>
              <a:xfrm>
                <a:off x="1548720" y="2284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48720" y="32090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01800" y="22845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444720" y="3209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482560" y="2033280"/>
              <a:ext cx="1871640" cy="747360"/>
            </a:xfrm>
            <a:prstGeom prst="wedgeRoundRectCallout">
              <a:avLst>
                <a:gd name="adj1" fmla="val 66032"/>
                <a:gd name="adj2" fmla="val -435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26920" y="2104920"/>
              <a:ext cx="1584360" cy="580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(10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-ra:   1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82560" y="3833640"/>
              <a:ext cx="1871640" cy="747360"/>
            </a:xfrm>
            <a:prstGeom prst="wedgeRoundRectCallout">
              <a:avLst>
                <a:gd name="adj1" fmla="val 67810"/>
                <a:gd name="adj2" fmla="val -2027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98560" y="3904920"/>
              <a:ext cx="1584360" cy="580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 (9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{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-ra: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98920" y="1700280"/>
              <a:ext cx="2592360" cy="256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162-36C3-432D-93AE-3ACB6F4FCD19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1476360" y="1557360"/>
            <a:ext cx="5832000" cy="3023640"/>
            <a:chOff x="1476360" y="1557360"/>
            <a:chExt cx="5832000" cy="3023640"/>
          </a:xfrm>
        </p:grpSpPr>
        <p:grpSp>
          <p:nvGrpSpPr>
            <p:cNvPr id="547" name=""/>
            <p:cNvGrpSpPr/>
            <p:nvPr/>
          </p:nvGrpSpPr>
          <p:grpSpPr>
            <a:xfrm>
              <a:off x="1836360" y="1746000"/>
              <a:ext cx="5295240" cy="2559960"/>
              <a:chOff x="1836360" y="1746000"/>
              <a:chExt cx="5295240" cy="2559960"/>
            </a:xfrm>
          </p:grpSpPr>
          <p:pic>
            <p:nvPicPr>
              <p:cNvPr id="548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836360" y="247212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836360" y="339624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733440" y="247212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660360" y="333108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33440" y="1746000"/>
                <a:ext cx="340920" cy="71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33440" y="3595680"/>
                <a:ext cx="34092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4" name=""/>
            <p:cNvSpPr/>
            <p:nvPr/>
          </p:nvSpPr>
          <p:spPr>
            <a:xfrm>
              <a:off x="1766160" y="2141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66160" y="306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19600" y="214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62160" y="3066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00000" y="1890360"/>
              <a:ext cx="1871280" cy="647280"/>
            </a:xfrm>
            <a:prstGeom prst="wedgeRoundRectCallout">
              <a:avLst>
                <a:gd name="adj1" fmla="val 66032"/>
                <a:gd name="adj2" fmla="val 2694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44360" y="2061720"/>
              <a:ext cx="158400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ra:   1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00000" y="3690720"/>
              <a:ext cx="1871280" cy="647280"/>
            </a:xfrm>
            <a:prstGeom prst="wedgeRoundRectCallout">
              <a:avLst>
                <a:gd name="adj1" fmla="val 67810"/>
                <a:gd name="adj2" fmla="val -1568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44360" y="3862080"/>
              <a:ext cx="158400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{A}</a:t>
              </a:r>
              <a:r>
                <a:rPr b="1" lang="hu-HU" sz="1600" spc="-1" strike="noStrike">
                  <a:solidFill>
                    <a:srgbClr val="3333cc"/>
                  </a:solidFill>
                  <a:latin typeface="Arial"/>
                </a:rPr>
                <a:t>-ra: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16360" y="1557360"/>
              <a:ext cx="2592000" cy="256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76360" y="2997000"/>
              <a:ext cx="4248000" cy="158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C20-281D-4369-80B5-89B3F1E839B4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1476360" y="1628640"/>
            <a:ext cx="5832000" cy="3024360"/>
            <a:chOff x="1476360" y="1628640"/>
            <a:chExt cx="5832000" cy="3024360"/>
          </a:xfrm>
        </p:grpSpPr>
        <p:grpSp>
          <p:nvGrpSpPr>
            <p:cNvPr id="566" name=""/>
            <p:cNvGrpSpPr/>
            <p:nvPr/>
          </p:nvGrpSpPr>
          <p:grpSpPr>
            <a:xfrm>
              <a:off x="1836360" y="1817640"/>
              <a:ext cx="5295240" cy="2560320"/>
              <a:chOff x="1836360" y="1817640"/>
              <a:chExt cx="5295240" cy="2560320"/>
            </a:xfrm>
          </p:grpSpPr>
          <p:pic>
            <p:nvPicPr>
              <p:cNvPr id="567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836360" y="254376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836360" y="346824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733440" y="254376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660360" y="3402720"/>
                <a:ext cx="398160" cy="51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33440" y="1817640"/>
                <a:ext cx="340920" cy="71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33440" y="3667680"/>
                <a:ext cx="34092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"/>
            <p:cNvSpPr/>
            <p:nvPr/>
          </p:nvSpPr>
          <p:spPr>
            <a:xfrm>
              <a:off x="1766160" y="2212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66160" y="3138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19600" y="2212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62160" y="3138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6360" y="1628640"/>
              <a:ext cx="2592000" cy="2565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76360" y="2133360"/>
              <a:ext cx="4248000" cy="251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FB1-AF6B-401A-A854-1C51CA1BE5F0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1404360" y="1700280"/>
            <a:ext cx="5365440" cy="2792160"/>
            <a:chOff x="1404360" y="1700280"/>
            <a:chExt cx="5365440" cy="2792160"/>
          </a:xfrm>
        </p:grpSpPr>
        <p:grpSp>
          <p:nvGrpSpPr>
            <p:cNvPr id="581" name=""/>
            <p:cNvGrpSpPr/>
            <p:nvPr/>
          </p:nvGrpSpPr>
          <p:grpSpPr>
            <a:xfrm>
              <a:off x="1404360" y="1700280"/>
              <a:ext cx="5365440" cy="2792160"/>
              <a:chOff x="1404360" y="1700280"/>
              <a:chExt cx="5365440" cy="279216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1474560" y="1700280"/>
                <a:ext cx="5295240" cy="2792160"/>
                <a:chOff x="1474560" y="1700280"/>
                <a:chExt cx="5295240" cy="2792160"/>
              </a:xfrm>
            </p:grpSpPr>
            <p:pic>
              <p:nvPicPr>
                <p:cNvPr id="583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74560" y="2492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4560" y="3500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71640" y="2492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98560" y="3429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71640" y="170028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571640" y="371772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9" name=""/>
              <p:cNvSpPr/>
              <p:nvPr/>
            </p:nvSpPr>
            <p:spPr>
              <a:xfrm>
                <a:off x="1404360" y="2131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04360" y="3139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57440" y="21315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300360" y="3139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075280" y="2347920"/>
              <a:ext cx="1223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86560" y="292428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1906200" y="3716280"/>
              <a:ext cx="25923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906560" y="292428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4BD-588B-4C20-A4BB-A5F04FF067BC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18600" y="476280"/>
            <a:ext cx="784476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nek elegendő csak a minimális licitek egyikét jelez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nek az új licitet csak akkor kell jeleznie, ha az ed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ált célpontot valaki elnyerte. (vagy ő maga,vagy más ág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Minden ágens legfeljebb egy licittel jelentkezik körön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körök száma azonos a célpontok számáva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Így az összes licit száma nem több, mint a parallel aukciónál, é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 olcs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éldában a jelezni nem szükséges licitek zárójel vanna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CC2-C0E9-4271-89A1-85AC0021787A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260280"/>
            <a:ext cx="792000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célpont eléréséhez az adott helyzetéből kiindulva a minimális költségű pályát lici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17440" y="1413000"/>
            <a:ext cx="5510520" cy="2792160"/>
            <a:chOff x="1117440" y="1413000"/>
            <a:chExt cx="5510520" cy="2792160"/>
          </a:xfrm>
        </p:grpSpPr>
        <p:grpSp>
          <p:nvGrpSpPr>
            <p:cNvPr id="59" name=""/>
            <p:cNvGrpSpPr/>
            <p:nvPr/>
          </p:nvGrpSpPr>
          <p:grpSpPr>
            <a:xfrm>
              <a:off x="1332000" y="1413000"/>
              <a:ext cx="5295960" cy="2792160"/>
              <a:chOff x="1332000" y="1413000"/>
              <a:chExt cx="5295960" cy="2792160"/>
            </a:xfrm>
          </p:grpSpPr>
          <p:pic>
            <p:nvPicPr>
              <p:cNvPr id="60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33200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332000" y="3213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22944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156360" y="3141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29440" y="141300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440" y="34304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/>
            <p:cNvSpPr/>
            <p:nvPr/>
          </p:nvSpPr>
          <p:spPr>
            <a:xfrm>
              <a:off x="1547640" y="2636640"/>
              <a:ext cx="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3440" y="2636640"/>
              <a:ext cx="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47640" y="2636640"/>
              <a:ext cx="446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7640" y="3213000"/>
              <a:ext cx="446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7640" y="2636640"/>
              <a:ext cx="446580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547640" y="2636640"/>
              <a:ext cx="446580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547640" y="2060280"/>
              <a:ext cx="273708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547640" y="2059920"/>
              <a:ext cx="2737080" cy="11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1080" y="2060280"/>
              <a:ext cx="115236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61080" y="2060280"/>
              <a:ext cx="1152360" cy="11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47640" y="3213000"/>
              <a:ext cx="2808360" cy="72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47640" y="2636640"/>
              <a:ext cx="2808360" cy="129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860720" y="2636640"/>
              <a:ext cx="1152360" cy="129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860720" y="3213000"/>
              <a:ext cx="1152360" cy="72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90520" y="1989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4160" y="2060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73080" y="2276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2349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4160" y="23493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33440" y="25650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06520" y="29253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25800" y="29253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4160" y="2852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94160" y="3573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6160" y="3284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17800" y="3644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3080" y="1917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61800" y="2925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86520" y="1917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86520" y="2852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7440" y="2707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4880" y="2565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8FF-27E9-42E4-B644-F584F81BBB5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1692360" y="1268280"/>
            <a:ext cx="5295960" cy="3656160"/>
            <a:chOff x="1692360" y="1268280"/>
            <a:chExt cx="5295960" cy="3656160"/>
          </a:xfrm>
        </p:grpSpPr>
        <p:pic>
          <p:nvPicPr>
            <p:cNvPr id="60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92360" y="206064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692360" y="378936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89800" y="206064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516720" y="371628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tretch/>
          </p:blipFill>
          <p:spPr>
            <a:xfrm>
              <a:off x="4789800" y="1268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4788000" y="414972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5293080" y="1844640"/>
              <a:ext cx="1223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220000" y="4005360"/>
              <a:ext cx="12254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195280" y="2347920"/>
              <a:ext cx="424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79640" y="2492280"/>
              <a:ext cx="0" cy="12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12120" y="5229360"/>
            <a:ext cx="61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kvenciális aukcióból adódó team költsé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nem szükségképpen min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rt nem minden kölcsönhatás van figyelembe vé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2320" y="2996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öveljük a távolsá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2000" y="4762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 -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2421000"/>
            <a:ext cx="0" cy="151272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42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89600" y="1608120"/>
            <a:ext cx="360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53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4520" y="1968480"/>
            <a:ext cx="360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530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00160" y="2544840"/>
            <a:ext cx="360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51640" y="3789360"/>
            <a:ext cx="360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C1E-A961-47BD-B076-7525571A8685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510840" y="620640"/>
            <a:ext cx="647784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mplementáció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viszonylag 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entralizáció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egysze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generálás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kommunikáció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kció lebonyolítás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olc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nagyon j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Arial"/>
              </a:rPr>
              <a:t></a:t>
            </a: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kölcsönhatások egy része figyelembe vé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2B8-1400-4676-8AC1-4D2F4E7D087C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91600" y="495360"/>
            <a:ext cx="80049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avaslat: automatikus licittervezés hegymászó keresés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yen az a győztes, amely mellett a team költség valamilyen mé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kevesebbet n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ágens egy célra azt az összeget licitálja, ami a minimális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ben jelentkező különbség a jelenlegi célhozzárendelés é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erésével módosított célhozzárendelés közö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 még nem elnyert célokat figyelmen kívül kell hagyn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BFC-B80A-4F05-A465-2AD9FE9FB6F6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749160" y="765000"/>
            <a:ext cx="58104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ák licitál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“direkt megközelíté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vetlenül találja meg a pály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ák licitál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“indirekt megközelíté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ákat talál és azokat pályákká konvert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4B1-26A8-4A41-B39A-8675453F643E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31640" y="333360"/>
            <a:ext cx="82076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Mini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Pályaköltségek összegének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Teljes energia, vagy távolság minimáliz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Alkalmazás: bolygófelszín ku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ximális pályaköltség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feladatvégzési idő minimálizálása (makes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objektum-felügyelet, bányatakar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s érkezési idő minimálizálása az összes célpontra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s kiszolgálási idő minimálizálása (flow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search and resc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00C-49CD-45F4-804E-C33D63B06521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50920" y="836640"/>
            <a:ext cx="8633880" cy="5238720"/>
            <a:chOff x="250920" y="836640"/>
            <a:chExt cx="8633880" cy="5238720"/>
          </a:xfrm>
        </p:grpSpPr>
        <p:grpSp>
          <p:nvGrpSpPr>
            <p:cNvPr id="627" name=""/>
            <p:cNvGrpSpPr/>
            <p:nvPr/>
          </p:nvGrpSpPr>
          <p:grpSpPr>
            <a:xfrm>
              <a:off x="250920" y="836640"/>
              <a:ext cx="8262720" cy="5238720"/>
              <a:chOff x="250920" y="836640"/>
              <a:chExt cx="8262720" cy="5238720"/>
            </a:xfrm>
          </p:grpSpPr>
          <p:pic>
            <p:nvPicPr>
              <p:cNvPr id="628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95280" y="234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5435640" y="1125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492360" y="1052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203640" y="5084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140328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2195640" y="1628640"/>
                <a:ext cx="39816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4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1619280" y="1197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>
                <a:hlinkClick r:id="rId15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6804000" y="2708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" descr="">
                <a:hlinkClick r:id="rId17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385128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" descr="">
                <a:hlinkClick r:id="rId19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6443640" y="836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>
                <a:hlinkClick r:id="rId21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250920" y="4797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" descr="">
                <a:hlinkClick r:id="rId23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2987640" y="3284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" descr="">
                <a:hlinkClick r:id="rId25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028000" y="234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" descr="">
                <a:hlinkClick r:id="rId27"/>
              </p:cNvPr>
              <p:cNvPicPr/>
              <p:nvPr/>
            </p:nvPicPr>
            <p:blipFill>
              <a:blip r:embed="rId28"/>
              <a:stretch/>
            </p:blipFill>
            <p:spPr>
              <a:xfrm>
                <a:off x="5435640" y="3933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" descr="">
                <a:hlinkClick r:id="rId29"/>
              </p:cNvPr>
              <p:cNvPicPr/>
              <p:nvPr/>
            </p:nvPicPr>
            <p:blipFill>
              <a:blip r:embed="rId30"/>
              <a:stretch/>
            </p:blipFill>
            <p:spPr>
              <a:xfrm>
                <a:off x="4211640" y="378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3" name="" descr="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395280" y="544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4" name="" descr="">
                <a:hlinkClick r:id="rId33"/>
              </p:cNvPr>
              <p:cNvPicPr/>
              <p:nvPr/>
            </p:nvPicPr>
            <p:blipFill>
              <a:blip r:embed="rId34"/>
              <a:stretch/>
            </p:blipFill>
            <p:spPr>
              <a:xfrm>
                <a:off x="826920" y="3429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" descr="">
                <a:hlinkClick r:id="rId35"/>
              </p:cNvPr>
              <p:cNvPicPr/>
              <p:nvPr/>
            </p:nvPicPr>
            <p:blipFill>
              <a:blip r:embed="rId36"/>
              <a:stretch/>
            </p:blipFill>
            <p:spPr>
              <a:xfrm>
                <a:off x="5003640" y="486900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" descr="">
                <a:hlinkClick r:id="rId37"/>
              </p:cNvPr>
              <p:cNvPicPr/>
              <p:nvPr/>
            </p:nvPicPr>
            <p:blipFill>
              <a:blip r:embed="rId38"/>
              <a:stretch/>
            </p:blipFill>
            <p:spPr>
              <a:xfrm>
                <a:off x="7308720" y="3933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" descr="">
                <a:hlinkClick r:id="rId39"/>
              </p:cNvPr>
              <p:cNvPicPr/>
              <p:nvPr/>
            </p:nvPicPr>
            <p:blipFill>
              <a:blip r:embed="rId40"/>
              <a:stretch/>
            </p:blipFill>
            <p:spPr>
              <a:xfrm>
                <a:off x="6227640" y="350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8" name="" descr="">
                <a:hlinkClick r:id="rId41"/>
              </p:cNvPr>
              <p:cNvPicPr/>
              <p:nvPr/>
            </p:nvPicPr>
            <p:blipFill>
              <a:blip r:embed="rId42"/>
              <a:stretch/>
            </p:blipFill>
            <p:spPr>
              <a:xfrm>
                <a:off x="6659640" y="5300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>
                <a:hlinkClick r:id="rId43"/>
              </p:cNvPr>
              <p:cNvPicPr/>
              <p:nvPr/>
            </p:nvPicPr>
            <p:blipFill>
              <a:blip r:embed="rId44"/>
              <a:stretch/>
            </p:blipFill>
            <p:spPr>
              <a:xfrm>
                <a:off x="8101080" y="4508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8172360" y="1125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55640" y="1125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2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003640" y="2276640"/>
                <a:ext cx="341640" cy="77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484360" y="3860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4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12000" y="5300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5" name=""/>
            <p:cNvSpPr/>
            <p:nvPr/>
          </p:nvSpPr>
          <p:spPr>
            <a:xfrm>
              <a:off x="1187280" y="14842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63640" y="15573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1618920" y="1989000"/>
              <a:ext cx="4316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11280" y="2421000"/>
              <a:ext cx="79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9640" y="2852640"/>
              <a:ext cx="21600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68360" y="3860640"/>
              <a:ext cx="287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280" y="5157720"/>
              <a:ext cx="144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843280" y="3715920"/>
              <a:ext cx="288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3640" y="3716280"/>
              <a:ext cx="21600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956720" y="1700280"/>
              <a:ext cx="71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877080" y="5734080"/>
              <a:ext cx="7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093080" y="4797360"/>
              <a:ext cx="934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7451280" y="4292280"/>
              <a:ext cx="576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6516720" y="3933360"/>
              <a:ext cx="71928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659640" y="3212640"/>
              <a:ext cx="28872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651280" y="3141720"/>
              <a:ext cx="1152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219640" y="4292640"/>
              <a:ext cx="21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4427280" y="4221000"/>
              <a:ext cx="64908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4066920" y="2565360"/>
              <a:ext cx="8650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708360" y="1484280"/>
              <a:ext cx="28728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51280" y="141300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796000" y="1125000"/>
              <a:ext cx="6476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252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53080" y="170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42160" y="9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3800" y="10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944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60720" y="112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81440" y="14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37080" y="20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02160" y="21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580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308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160" y="508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02160" y="350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4980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0880" y="537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10880" y="486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6944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7888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0580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868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6616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1852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3080" y="98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46160" y="5373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81440" y="422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53488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37800" y="227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116000" y="2592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ipikus koordinációs feladat: MiniSum Team célfüggv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+10+2+4+15 =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680-812E-4F29-8E69-750A496A13AE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250920" y="189000"/>
            <a:ext cx="7056360" cy="2428920"/>
            <a:chOff x="250920" y="189000"/>
            <a:chExt cx="7056360" cy="2428920"/>
          </a:xfrm>
        </p:grpSpPr>
        <p:pic>
          <p:nvPicPr>
            <p:cNvPr id="70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61928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5"/>
            <a:stretch/>
          </p:blipFill>
          <p:spPr>
            <a:xfrm>
              <a:off x="3276720" y="476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2988720" y="1844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403280" y="2060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276720" y="177336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16720" y="1844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2"/>
            <a:stretch/>
          </p:blipFill>
          <p:spPr>
            <a:xfrm>
              <a:off x="6443640" y="54936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250920" y="333360"/>
              <a:ext cx="4176720" cy="136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12000" y="333360"/>
              <a:ext cx="1295280" cy="215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95640" y="189000"/>
              <a:ext cx="1800360" cy="1081080"/>
            </a:xfrm>
            <a:prstGeom prst="cloudCallout">
              <a:avLst>
                <a:gd name="adj1" fmla="val -63842"/>
                <a:gd name="adj2" fmla="val 320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nyit tegy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r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11680" y="4149720"/>
            <a:ext cx="40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 = energia vagy távol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4CA-3C3F-4B0C-A2A3-77D0E2E4B5C2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50920" y="333360"/>
            <a:ext cx="7056360" cy="2284560"/>
            <a:chOff x="250920" y="333360"/>
            <a:chExt cx="7056360" cy="2284560"/>
          </a:xfrm>
        </p:grpSpPr>
        <p:pic>
          <p:nvPicPr>
            <p:cNvPr id="71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61928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5"/>
            <a:stretch/>
          </p:blipFill>
          <p:spPr>
            <a:xfrm>
              <a:off x="3276720" y="476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2988720" y="1844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403280" y="2060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276720" y="177336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16720" y="1844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2"/>
            <a:stretch/>
          </p:blipFill>
          <p:spPr>
            <a:xfrm>
              <a:off x="6443640" y="54936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50920" y="333360"/>
              <a:ext cx="4176720" cy="136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12000" y="333360"/>
              <a:ext cx="1295280" cy="215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88000" y="1413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835280" y="1052640"/>
              <a:ext cx="129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55640" y="1052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4711680" y="4149720"/>
            <a:ext cx="40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 = energia vagy távol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75C-5448-4FF4-B185-A4576E2EF1EF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250920" y="333360"/>
            <a:ext cx="7056360" cy="5235120"/>
            <a:chOff x="250920" y="333360"/>
            <a:chExt cx="7056360" cy="5235120"/>
          </a:xfrm>
        </p:grpSpPr>
        <p:pic>
          <p:nvPicPr>
            <p:cNvPr id="73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61928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5"/>
            <a:stretch/>
          </p:blipFill>
          <p:spPr>
            <a:xfrm>
              <a:off x="3276720" y="476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988720" y="1844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403280" y="2060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276720" y="177336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16720" y="1844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12"/>
            <a:stretch/>
          </p:blipFill>
          <p:spPr>
            <a:xfrm>
              <a:off x="6443640" y="54936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0920" y="333360"/>
              <a:ext cx="4176720" cy="136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12000" y="333360"/>
              <a:ext cx="1295280" cy="215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88000" y="1413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1834920" y="1052640"/>
              <a:ext cx="1368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55640" y="1052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250920" y="3284640"/>
              <a:ext cx="7056360" cy="2283840"/>
              <a:chOff x="250920" y="3284640"/>
              <a:chExt cx="7056360" cy="2283840"/>
            </a:xfrm>
          </p:grpSpPr>
          <p:pic>
            <p:nvPicPr>
              <p:cNvPr id="748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539640" y="3643200"/>
                <a:ext cx="398520" cy="55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9" name="" descr="">
                <a:hlinkClick r:id="rId15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1619280" y="3643200"/>
                <a:ext cx="398520" cy="55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76720" y="3427200"/>
                <a:ext cx="34128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2988720" y="4795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2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1403280" y="501156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3276720" y="4724280"/>
                <a:ext cx="398520" cy="55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6516720" y="479556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43640" y="3500280"/>
                <a:ext cx="34128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>
                <a:off x="250920" y="3284640"/>
                <a:ext cx="4176720" cy="136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12000" y="3284640"/>
                <a:ext cx="1295280" cy="2158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88000" y="4363920"/>
                <a:ext cx="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835280" y="4003560"/>
                <a:ext cx="129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55640" y="400356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492360" y="1341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961280" y="2728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u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854240" y="2205000"/>
            <a:ext cx="40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 = energia vagy távol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784-C7D2-4B78-BB32-E073AA1BC48B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250920" y="333360"/>
            <a:ext cx="4176720" cy="5235480"/>
            <a:chOff x="250920" y="333360"/>
            <a:chExt cx="4176720" cy="5235480"/>
          </a:xfrm>
        </p:grpSpPr>
        <p:pic>
          <p:nvPicPr>
            <p:cNvPr id="76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619280" y="692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5"/>
            <a:stretch/>
          </p:blipFill>
          <p:spPr>
            <a:xfrm>
              <a:off x="3276720" y="47628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88720" y="1844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403280" y="206064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276720" y="177336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50920" y="333360"/>
              <a:ext cx="4176720" cy="136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1834920" y="1052640"/>
              <a:ext cx="1368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55640" y="1052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39640" y="364320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1619280" y="364320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14"/>
            <a:stretch/>
          </p:blipFill>
          <p:spPr>
            <a:xfrm>
              <a:off x="3276720" y="342756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2988720" y="4795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15"/>
            <a:stretch/>
          </p:blipFill>
          <p:spPr>
            <a:xfrm>
              <a:off x="1403280" y="501156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16"/>
            <a:stretch/>
          </p:blipFill>
          <p:spPr>
            <a:xfrm>
              <a:off x="3276720" y="4724280"/>
              <a:ext cx="39852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250920" y="3284640"/>
              <a:ext cx="4176720" cy="136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1835280" y="4003560"/>
              <a:ext cx="129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55640" y="40035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92360" y="1341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59120" y="27036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minus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4546800" y="2271600"/>
            <a:ext cx="448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nnak a minimális költségű pályán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ltsége, amivel az összes elny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ot bejárhatja, feltéve hogy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ált célpontot elny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u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nnak a minimális költségű pályán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ltsége, amivel az összes ed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nyert célpontot bejárhat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4240" y="404640"/>
            <a:ext cx="40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 = energia vagy távol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5AC-1AF4-4D7C-A464-9D71A7BAD4DC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260280"/>
            <a:ext cx="792000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ágens a célpont eléréséhez az adott helyzetéből kiindulva a minimális költségű pályát licit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17080" y="1268280"/>
            <a:ext cx="5510880" cy="3240000"/>
            <a:chOff x="1117080" y="1268280"/>
            <a:chExt cx="5510880" cy="3240000"/>
          </a:xfrm>
        </p:grpSpPr>
        <p:grpSp>
          <p:nvGrpSpPr>
            <p:cNvPr id="100" name=""/>
            <p:cNvGrpSpPr/>
            <p:nvPr/>
          </p:nvGrpSpPr>
          <p:grpSpPr>
            <a:xfrm>
              <a:off x="1332000" y="1268280"/>
              <a:ext cx="5295960" cy="2792160"/>
              <a:chOff x="1332000" y="1268280"/>
              <a:chExt cx="5295960" cy="2792160"/>
            </a:xfrm>
          </p:grpSpPr>
          <p:pic>
            <p:nvPicPr>
              <p:cNvPr id="101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332000" y="206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332000" y="3068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6229440" y="206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156360" y="2997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29440" y="126828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440" y="328572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2556000" y="1844640"/>
              <a:ext cx="1439640" cy="1079280"/>
              <a:chOff x="2556000" y="1844640"/>
              <a:chExt cx="1439640" cy="1079280"/>
            </a:xfrm>
          </p:grpSpPr>
          <p:sp>
            <p:nvSpPr>
              <p:cNvPr id="108" name=""/>
              <p:cNvSpPr/>
              <p:nvPr/>
            </p:nvSpPr>
            <p:spPr>
              <a:xfrm>
                <a:off x="2556000" y="1844640"/>
                <a:ext cx="1439640" cy="1079280"/>
              </a:xfrm>
              <a:prstGeom prst="wedgeRoundRectCallout">
                <a:avLst>
                  <a:gd name="adj1" fmla="val 78444"/>
                  <a:gd name="adj2" fmla="val -56175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03600" y="1844640"/>
                <a:ext cx="912240" cy="1067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-ra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-re: 9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-re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-re: 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556000" y="3429000"/>
              <a:ext cx="1439640" cy="1079280"/>
              <a:chOff x="2556000" y="3429000"/>
              <a:chExt cx="1439640" cy="1079280"/>
            </a:xfrm>
          </p:grpSpPr>
          <p:sp>
            <p:nvSpPr>
              <p:cNvPr id="111" name=""/>
              <p:cNvSpPr/>
              <p:nvPr/>
            </p:nvSpPr>
            <p:spPr>
              <a:xfrm>
                <a:off x="2556000" y="3429000"/>
                <a:ext cx="1439640" cy="1079280"/>
              </a:xfrm>
              <a:prstGeom prst="wedgeRoundRectCallout">
                <a:avLst>
                  <a:gd name="adj1" fmla="val 78444"/>
                  <a:gd name="adj2" fmla="val -56175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03600" y="3429000"/>
                <a:ext cx="912240" cy="1067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-ra: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-re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-re: 4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-re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117080" y="1773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0160" y="2781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4880" y="1773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4880" y="2708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6AF-55D2-43A1-A5F2-0E3E3E99DFD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31640" y="333360"/>
            <a:ext cx="82076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költségek összegének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energia, vagy távolság minimáliz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bolygófelszín ku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Min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Maximális pályaköltség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Teljes feladatvégzési idő minimálizálása (makes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Alkalmazás: objektum-felügyelet, bányatakar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s érkezési idő minimálizálása az összes célpontra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s kiszolgálási idő minimálizálása (flow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search and resc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D5C-E9C0-48E7-8FA6-1C1E86538BC4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250920" y="836640"/>
            <a:ext cx="8633880" cy="5238720"/>
            <a:chOff x="250920" y="836640"/>
            <a:chExt cx="8633880" cy="5238720"/>
          </a:xfrm>
        </p:grpSpPr>
        <p:grpSp>
          <p:nvGrpSpPr>
            <p:cNvPr id="789" name=""/>
            <p:cNvGrpSpPr/>
            <p:nvPr/>
          </p:nvGrpSpPr>
          <p:grpSpPr>
            <a:xfrm>
              <a:off x="250920" y="836640"/>
              <a:ext cx="8262720" cy="5238720"/>
              <a:chOff x="250920" y="836640"/>
              <a:chExt cx="8262720" cy="5238720"/>
            </a:xfrm>
          </p:grpSpPr>
          <p:pic>
            <p:nvPicPr>
              <p:cNvPr id="790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95280" y="234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5435640" y="1125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492360" y="1052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203640" y="5084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140328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2195640" y="1628640"/>
                <a:ext cx="39816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1619280" y="1197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" descr="">
                <a:hlinkClick r:id="rId15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6804000" y="2708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" descr="">
                <a:hlinkClick r:id="rId17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3851280" y="220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9" name="" descr="">
                <a:hlinkClick r:id="rId19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6443640" y="836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" descr="">
                <a:hlinkClick r:id="rId21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250920" y="4797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" descr="">
                <a:hlinkClick r:id="rId23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2987640" y="3284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" descr="">
                <a:hlinkClick r:id="rId25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028000" y="234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>
                <a:hlinkClick r:id="rId27"/>
              </p:cNvPr>
              <p:cNvPicPr/>
              <p:nvPr/>
            </p:nvPicPr>
            <p:blipFill>
              <a:blip r:embed="rId28"/>
              <a:stretch/>
            </p:blipFill>
            <p:spPr>
              <a:xfrm>
                <a:off x="5435640" y="3933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>
                <a:hlinkClick r:id="rId29"/>
              </p:cNvPr>
              <p:cNvPicPr/>
              <p:nvPr/>
            </p:nvPicPr>
            <p:blipFill>
              <a:blip r:embed="rId30"/>
              <a:stretch/>
            </p:blipFill>
            <p:spPr>
              <a:xfrm>
                <a:off x="4211640" y="3789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" descr="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395280" y="544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6" name="" descr="">
                <a:hlinkClick r:id="rId33"/>
              </p:cNvPr>
              <p:cNvPicPr/>
              <p:nvPr/>
            </p:nvPicPr>
            <p:blipFill>
              <a:blip r:embed="rId34"/>
              <a:stretch/>
            </p:blipFill>
            <p:spPr>
              <a:xfrm>
                <a:off x="826920" y="3429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" descr="">
                <a:hlinkClick r:id="rId35"/>
              </p:cNvPr>
              <p:cNvPicPr/>
              <p:nvPr/>
            </p:nvPicPr>
            <p:blipFill>
              <a:blip r:embed="rId36"/>
              <a:stretch/>
            </p:blipFill>
            <p:spPr>
              <a:xfrm>
                <a:off x="5003640" y="486900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" descr="">
                <a:hlinkClick r:id="rId37"/>
              </p:cNvPr>
              <p:cNvPicPr/>
              <p:nvPr/>
            </p:nvPicPr>
            <p:blipFill>
              <a:blip r:embed="rId38"/>
              <a:stretch/>
            </p:blipFill>
            <p:spPr>
              <a:xfrm>
                <a:off x="7308720" y="3933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" name="" descr="">
                <a:hlinkClick r:id="rId39"/>
              </p:cNvPr>
              <p:cNvPicPr/>
              <p:nvPr/>
            </p:nvPicPr>
            <p:blipFill>
              <a:blip r:embed="rId40"/>
              <a:stretch/>
            </p:blipFill>
            <p:spPr>
              <a:xfrm>
                <a:off x="6227640" y="3500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0" name="" descr="">
                <a:hlinkClick r:id="rId41"/>
              </p:cNvPr>
              <p:cNvPicPr/>
              <p:nvPr/>
            </p:nvPicPr>
            <p:blipFill>
              <a:blip r:embed="rId42"/>
              <a:stretch/>
            </p:blipFill>
            <p:spPr>
              <a:xfrm>
                <a:off x="6659640" y="5300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1" name="" descr="">
                <a:hlinkClick r:id="rId43"/>
              </p:cNvPr>
              <p:cNvPicPr/>
              <p:nvPr/>
            </p:nvPicPr>
            <p:blipFill>
              <a:blip r:embed="rId44"/>
              <a:stretch/>
            </p:blipFill>
            <p:spPr>
              <a:xfrm>
                <a:off x="8101080" y="4508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8172360" y="1125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55640" y="1125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003640" y="2276640"/>
                <a:ext cx="341640" cy="77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484360" y="3860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12000" y="5300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7" name=""/>
            <p:cNvSpPr/>
            <p:nvPr/>
          </p:nvSpPr>
          <p:spPr>
            <a:xfrm>
              <a:off x="1187280" y="14842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63640" y="15573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1618920" y="1989000"/>
              <a:ext cx="4316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11280" y="2421000"/>
              <a:ext cx="79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9640" y="2852640"/>
              <a:ext cx="21600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68360" y="3860640"/>
              <a:ext cx="287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5280" y="5157720"/>
              <a:ext cx="144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843280" y="3715920"/>
              <a:ext cx="288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03640" y="3716280"/>
              <a:ext cx="21600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956720" y="1700280"/>
              <a:ext cx="71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877080" y="5734080"/>
              <a:ext cx="7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093080" y="4797360"/>
              <a:ext cx="934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7451280" y="4292280"/>
              <a:ext cx="576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6516720" y="3933360"/>
              <a:ext cx="71928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659640" y="3212640"/>
              <a:ext cx="28872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651280" y="3141720"/>
              <a:ext cx="1152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219640" y="4292640"/>
              <a:ext cx="21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4427280" y="4221000"/>
              <a:ext cx="64908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4066920" y="2565360"/>
              <a:ext cx="8650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3708360" y="1484280"/>
              <a:ext cx="28728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51280" y="141300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796000" y="1125000"/>
              <a:ext cx="6476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50252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853080" y="170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2160" y="9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3800" y="10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6944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60720" y="112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981440" y="14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7080" y="20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02160" y="21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580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308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0160" y="508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02160" y="350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4980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10880" y="537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10880" y="486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6944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7888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0580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68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6616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1852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3080" y="98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46160" y="5373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81440" y="422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53488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37800" y="227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116000" y="259200"/>
            <a:ext cx="709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ipikus koordinációs feladat: MiniMax Team célfüggv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ax(10,10,2,4,15)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70B-F042-4E84-9723-1A0A51CC26FB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16080" y="260280"/>
            <a:ext cx="680544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Max = make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 a minimális pályaköltséggel az összes elnyert célpo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látogatásához, feltéve, hogy a licitált célpontot elnye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idMaxPath), ami az összes ágensre nézve egyenlíti ki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költség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340000" y="3716280"/>
            <a:ext cx="4176720" cy="1996920"/>
            <a:chOff x="2340000" y="3716280"/>
            <a:chExt cx="4176720" cy="1996920"/>
          </a:xfrm>
        </p:grpSpPr>
        <p:pic>
          <p:nvPicPr>
            <p:cNvPr id="869" name="" descr=""/>
            <p:cNvPicPr/>
            <p:nvPr/>
          </p:nvPicPr>
          <p:blipFill>
            <a:blip r:embed="rId1"/>
            <a:stretch/>
          </p:blipFill>
          <p:spPr>
            <a:xfrm>
              <a:off x="2628720" y="407520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2"/>
            <a:stretch/>
          </p:blipFill>
          <p:spPr>
            <a:xfrm>
              <a:off x="3708360" y="407520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5365800" y="3859200"/>
              <a:ext cx="341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077800" y="5227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365800" y="5156280"/>
              <a:ext cx="3985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2340000" y="3716280"/>
              <a:ext cx="4176720" cy="136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3924000" y="4435560"/>
              <a:ext cx="1368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844720" y="44355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81440" y="4724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76A-28DC-4F3C-9C3B-BC7495F8F28B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31640" y="333360"/>
            <a:ext cx="82076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költségek összegének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energia, vagy távolság minimáliz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bolygófelszín ku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ximális pályaköltség minimálizálása az összes ágensre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feladatvégzési idő minimálizálása (makes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: objektum-felügyelet, bányatakar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Mini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Átlagos érkezési idő minimálizálása az összes célpontra néz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Átlagos kiszolgálási idő minimálizálása (flow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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Alkalmazás: search and resc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CF4-BBD4-4B3B-BBF9-66D87BDC0ED9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250920" y="404640"/>
            <a:ext cx="8633880" cy="5238720"/>
            <a:chOff x="250920" y="404640"/>
            <a:chExt cx="8633880" cy="5238720"/>
          </a:xfrm>
        </p:grpSpPr>
        <p:grpSp>
          <p:nvGrpSpPr>
            <p:cNvPr id="880" name=""/>
            <p:cNvGrpSpPr/>
            <p:nvPr/>
          </p:nvGrpSpPr>
          <p:grpSpPr>
            <a:xfrm>
              <a:off x="250920" y="404640"/>
              <a:ext cx="8262720" cy="5238720"/>
              <a:chOff x="250920" y="404640"/>
              <a:chExt cx="8262720" cy="5238720"/>
            </a:xfrm>
          </p:grpSpPr>
          <p:pic>
            <p:nvPicPr>
              <p:cNvPr id="881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95280" y="1917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5435640" y="693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492360" y="620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203640" y="4652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1403280" y="1773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2195640" y="1196640"/>
                <a:ext cx="39816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1619280" y="765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15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6804000" y="2276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17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3851280" y="1773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19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6443640" y="404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21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250920" y="4365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23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2987640" y="2852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25"/>
              </p:cNvPr>
              <p:cNvPicPr/>
              <p:nvPr/>
            </p:nvPicPr>
            <p:blipFill>
              <a:blip r:embed="rId26"/>
              <a:stretch/>
            </p:blipFill>
            <p:spPr>
              <a:xfrm>
                <a:off x="8028000" y="1917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27"/>
              </p:cNvPr>
              <p:cNvPicPr/>
              <p:nvPr/>
            </p:nvPicPr>
            <p:blipFill>
              <a:blip r:embed="rId28"/>
              <a:stretch/>
            </p:blipFill>
            <p:spPr>
              <a:xfrm>
                <a:off x="5435640" y="3501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29"/>
              </p:cNvPr>
              <p:cNvPicPr/>
              <p:nvPr/>
            </p:nvPicPr>
            <p:blipFill>
              <a:blip r:embed="rId30"/>
              <a:stretch/>
            </p:blipFill>
            <p:spPr>
              <a:xfrm>
                <a:off x="4211640" y="335736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395280" y="5013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33"/>
              </p:cNvPr>
              <p:cNvPicPr/>
              <p:nvPr/>
            </p:nvPicPr>
            <p:blipFill>
              <a:blip r:embed="rId34"/>
              <a:stretch/>
            </p:blipFill>
            <p:spPr>
              <a:xfrm>
                <a:off x="826920" y="299700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35"/>
              </p:cNvPr>
              <p:cNvPicPr/>
              <p:nvPr/>
            </p:nvPicPr>
            <p:blipFill>
              <a:blip r:embed="rId36"/>
              <a:stretch/>
            </p:blipFill>
            <p:spPr>
              <a:xfrm>
                <a:off x="5003640" y="443700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>
                <a:hlinkClick r:id="rId37"/>
              </p:cNvPr>
              <p:cNvPicPr/>
              <p:nvPr/>
            </p:nvPicPr>
            <p:blipFill>
              <a:blip r:embed="rId38"/>
              <a:stretch/>
            </p:blipFill>
            <p:spPr>
              <a:xfrm>
                <a:off x="7308720" y="350172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>
                <a:hlinkClick r:id="rId39"/>
              </p:cNvPr>
              <p:cNvPicPr/>
              <p:nvPr/>
            </p:nvPicPr>
            <p:blipFill>
              <a:blip r:embed="rId40"/>
              <a:stretch/>
            </p:blipFill>
            <p:spPr>
              <a:xfrm>
                <a:off x="6227640" y="306828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>
                <a:hlinkClick r:id="rId41"/>
              </p:cNvPr>
              <p:cNvPicPr/>
              <p:nvPr/>
            </p:nvPicPr>
            <p:blipFill>
              <a:blip r:embed="rId42"/>
              <a:stretch/>
            </p:blipFill>
            <p:spPr>
              <a:xfrm>
                <a:off x="6659640" y="4868640"/>
                <a:ext cx="3985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>
                <a:hlinkClick r:id="rId43"/>
              </p:cNvPr>
              <p:cNvPicPr/>
              <p:nvPr/>
            </p:nvPicPr>
            <p:blipFill>
              <a:blip r:embed="rId44"/>
              <a:stretch/>
            </p:blipFill>
            <p:spPr>
              <a:xfrm>
                <a:off x="8101080" y="4076640"/>
                <a:ext cx="39852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8172360" y="693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55640" y="69336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003640" y="1844640"/>
                <a:ext cx="341640" cy="77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484360" y="3428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12000" y="4868640"/>
                <a:ext cx="341280" cy="77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8" name=""/>
            <p:cNvSpPr/>
            <p:nvPr/>
          </p:nvSpPr>
          <p:spPr>
            <a:xfrm>
              <a:off x="1187280" y="10522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63640" y="11253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1618920" y="1557000"/>
              <a:ext cx="4316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11280" y="1989000"/>
              <a:ext cx="79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9640" y="2420640"/>
              <a:ext cx="21600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68360" y="3428640"/>
              <a:ext cx="287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5280" y="4725720"/>
              <a:ext cx="144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843280" y="3283920"/>
              <a:ext cx="288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3640" y="3284280"/>
              <a:ext cx="21600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7956720" y="1268280"/>
              <a:ext cx="71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877080" y="5302080"/>
              <a:ext cx="7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093080" y="4365360"/>
              <a:ext cx="934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7451280" y="3860280"/>
              <a:ext cx="576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516720" y="3501360"/>
              <a:ext cx="71928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659640" y="2780640"/>
              <a:ext cx="28872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651280" y="2709720"/>
              <a:ext cx="11523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219640" y="3860640"/>
              <a:ext cx="21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4427280" y="3789000"/>
              <a:ext cx="64908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4066920" y="2133360"/>
              <a:ext cx="8650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3708360" y="1052280"/>
              <a:ext cx="28728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51280" y="98100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5796000" y="693000"/>
              <a:ext cx="6476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02520" y="19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53080" y="126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54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73800" y="62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69440" y="141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60720" y="69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440" y="9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37080" y="16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2160" y="170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5800" y="27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" y="371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0160" y="46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02160" y="306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49800" y="371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10880" y="49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1088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69440" y="371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78880" y="34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05800" y="29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86880" y="263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6160" y="400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71852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53080" y="549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246160" y="4941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981440" y="378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34880" y="69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37800" y="1844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395280" y="54439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ipikus koordinációs feladat: MiniAve Team célfüggv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1+2+3+4+6+9+10+1+4+…)/22 = 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4F8-3E5A-4914-AEE5-D3C11076AC0B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65760" y="423720"/>
            <a:ext cx="84193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iAve = flow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 az érkezési idők minimális összegében jelentkező inkrementumm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i az összes elnyert célpont meglátogatásához szükséges, felté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 a licitált célpontot elnyeri (BidAveP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AD-477B-4BEF-8682-244FD15EDD42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"/>
          <p:cNvGrpSpPr/>
          <p:nvPr/>
        </p:nvGrpSpPr>
        <p:grpSpPr>
          <a:xfrm>
            <a:off x="2843280" y="2492280"/>
            <a:ext cx="3313080" cy="1150920"/>
            <a:chOff x="2843280" y="2492280"/>
            <a:chExt cx="3313080" cy="1150920"/>
          </a:xfrm>
        </p:grpSpPr>
        <p:pic>
          <p:nvPicPr>
            <p:cNvPr id="96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072240" y="2793960"/>
              <a:ext cx="3160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28680" y="2793960"/>
              <a:ext cx="3160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5"/>
            <a:stretch/>
          </p:blipFill>
          <p:spPr>
            <a:xfrm>
              <a:off x="5243400" y="2612520"/>
              <a:ext cx="2703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2843280" y="2492280"/>
              <a:ext cx="331308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099680" y="3097440"/>
              <a:ext cx="102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243240" y="3097440"/>
              <a:ext cx="62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39640" y="765000"/>
            <a:ext cx="8280360" cy="1493640"/>
            <a:chOff x="539640" y="765000"/>
            <a:chExt cx="8280360" cy="1493640"/>
          </a:xfrm>
        </p:grpSpPr>
        <p:grpSp>
          <p:nvGrpSpPr>
            <p:cNvPr id="967" name=""/>
            <p:cNvGrpSpPr/>
            <p:nvPr/>
          </p:nvGrpSpPr>
          <p:grpSpPr>
            <a:xfrm>
              <a:off x="539640" y="765000"/>
              <a:ext cx="2519640" cy="1277640"/>
              <a:chOff x="539640" y="765000"/>
              <a:chExt cx="2519640" cy="1277640"/>
            </a:xfrm>
          </p:grpSpPr>
          <p:pic>
            <p:nvPicPr>
              <p:cNvPr id="9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39640" y="914040"/>
                <a:ext cx="32076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1406520" y="914040"/>
                <a:ext cx="32076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38520" y="765000"/>
                <a:ext cx="27468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1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2738520" y="1658520"/>
                <a:ext cx="3207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flipH="1" flipV="1">
                <a:off x="1581120" y="1161360"/>
                <a:ext cx="1098720" cy="54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712800" y="1161720"/>
                <a:ext cx="63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13120" y="1361880"/>
                <a:ext cx="0" cy="24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5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419640" y="1058400"/>
              <a:ext cx="3204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4286160" y="1058400"/>
              <a:ext cx="32076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17"/>
            <a:stretch/>
          </p:blipFill>
          <p:spPr>
            <a:xfrm>
              <a:off x="5618160" y="909360"/>
              <a:ext cx="274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618160" y="1803240"/>
              <a:ext cx="3207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 flipH="1" flipV="1">
              <a:off x="3564000" y="1412640"/>
              <a:ext cx="1962000" cy="47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16480" y="1341000"/>
              <a:ext cx="109224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4716000" y="134100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6300720" y="1130040"/>
              <a:ext cx="3207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7167600" y="1130040"/>
              <a:ext cx="3207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4"/>
            <a:stretch/>
          </p:blipFill>
          <p:spPr>
            <a:xfrm>
              <a:off x="8499600" y="980640"/>
              <a:ext cx="274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>
              <a:off x="8499600" y="1874520"/>
              <a:ext cx="3204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6516720" y="1485720"/>
              <a:ext cx="187164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6473880" y="137772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7596360" y="1341000"/>
              <a:ext cx="86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312480" y="3860640"/>
            <a:ext cx="8617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licitszabályok szárma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adott célponthalmaz meglátogatásához szükséges minimális költség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álya megkeresése NP-nehéz. Polinomiális idejű legolcsóbb beszú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cheapest insertio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heurisztikát (vagy más bonyolultabb) heurisztiká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znál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EAC-0031-42BC-BA80-9947EA25BF56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633480" y="4653000"/>
            <a:ext cx="49539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nergiafogyasz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adatvégzési id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Av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s célpont elérési id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NP-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16080" y="333360"/>
            <a:ext cx="814356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icit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 db. ágens r1, …, rn, m db. még nem kiosztott célpont: t1, …, 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élok particiója: T = (T1, …, T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team hatékonyságot optimálizál: f(g(r1,T1), …, g(rn,Tn)) függv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ens g(.) hatékonyságok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C(ri,Ti) az i-edik ágens minimális pályaköl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C(ri,Ti) a minimális pályaköltség/célpont, ha az ágens a Ti min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ját megláltoga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 = min</a:t>
            </a:r>
            <a:r>
              <a:rPr b="0" lang="hu-HU" sz="2000" spc="-1" strike="noStrike" baseline="-18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ax = min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ax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Ave = min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/m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TC(rj,T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187280" y="3284640"/>
            <a:ext cx="403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6BC-5EA8-41FE-8965-B8F602634669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3120" y="260280"/>
            <a:ext cx="91206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icit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ens r licitál: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ülönbség = team hasznosság(hozzárendelés + ő győzel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team hasznosság (kiinduló hely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(g(r1,T’1), …, g(rn,T’n)) - f(g(r1,T1), …, g(rn,Tn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’i = Ti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  T’j = Tj    i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egymászó algoritmus, lokális opt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dSum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’j) - min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j)=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PC(ri,T’i) - PC(ri,Ti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dMax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’j)- max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j)= PC(ri,T’i) - max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j) =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PC(ri,T’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max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C(rj,T’j)=PC(ri,T’i), különben korábban elkel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dAve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/m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TC(rj,T’j) - 1/m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000" spc="-1" strike="noStrike" baseline="-16000">
                <a:solidFill>
                  <a:srgbClr val="000000"/>
                </a:solidFill>
                <a:latin typeface="Arial"/>
              </a:rPr>
              <a:t>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TC(rj,Tj) = 1/m (STC(ri,T’i) -STC(ri,T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STC(ri,T’i) -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STC(ri,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PC(ri,T’i), STC(ri,T’i) számitása NP-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311-7E92-4351-A085-A16395035951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49840" y="268200"/>
            <a:ext cx="857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álya v. 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rekt indirekt (fa-pálya konverzió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ák számításbarát (polinomiá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ális kifeszítő erd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linomi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ax kifeszítő erd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Av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mum átlagos költségű kifeszítő erd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riviális (csillag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7800" y="2421000"/>
            <a:ext cx="71226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citszabályok összehason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dSumPath, BidMaxPath, BidAve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ás: 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licit: NP-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konverzió: nin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yakorl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egyszerű TSP beszúrási heurisz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dSumTree, BidMaxTree, BidAve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i tás: 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licit: polinomi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konverzió: NP-nehé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yakorl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egyszerű MST (minimális kifeszítő fa) heurisz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8E2-0026-426D-8CAA-C086A47769B9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476360" y="1268280"/>
            <a:ext cx="6119640" cy="2806560"/>
            <a:chOff x="1476360" y="1268280"/>
            <a:chExt cx="6119640" cy="2806560"/>
          </a:xfrm>
        </p:grpSpPr>
        <p:grpSp>
          <p:nvGrpSpPr>
            <p:cNvPr id="118" name=""/>
            <p:cNvGrpSpPr/>
            <p:nvPr/>
          </p:nvGrpSpPr>
          <p:grpSpPr>
            <a:xfrm>
              <a:off x="1621800" y="1268280"/>
              <a:ext cx="5365440" cy="2792160"/>
              <a:chOff x="1621800" y="1268280"/>
              <a:chExt cx="5365440" cy="27921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692000" y="1268280"/>
                <a:ext cx="5295240" cy="2792160"/>
                <a:chOff x="1692000" y="1268280"/>
                <a:chExt cx="5295240" cy="2792160"/>
              </a:xfrm>
            </p:grpSpPr>
            <p:pic>
              <p:nvPicPr>
                <p:cNvPr id="120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2000" y="2060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2000" y="3068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89080" y="206028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6000" y="2997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89080" y="126828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9080" y="328572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6" name=""/>
              <p:cNvSpPr/>
              <p:nvPr/>
            </p:nvSpPr>
            <p:spPr>
              <a:xfrm>
                <a:off x="1621800" y="16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21800" y="2707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74880" y="16995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517800" y="2707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476360" y="1483920"/>
              <a:ext cx="6119640" cy="151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6360" y="2563560"/>
              <a:ext cx="611964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84720" y="4046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F9C-E1F8-4F0E-9CD6-74DB8948401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3040" y="549360"/>
            <a:ext cx="7473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kciós mechanizmusok komplexi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ő komplexitás (számítás mennyisé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di aukcióban a licit érték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di aukcióban a győztes megállap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s feladat eladásához szükséges aukciók szá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munikációs komplexitás (üzenet sávszéles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ívás licitál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cit bejelen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őztesek értesítése elnyert feladatok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sztesek értesítése, vagy 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ldás minősége (team költ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50F-11CA-4069-B0A2-5AED2649CD46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30560" y="403200"/>
            <a:ext cx="75798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ő komplex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 = # tét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 = # licitá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= # bejelentett licitkötegek (kombinatorikus aukci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 = aukciókénti max # odaítélések (csoportos aukció), 1 ≤ m ≤ 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/V = tétel/köteg kiértékelésének időszükséglete (dómén-függő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7632720" cy="28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6F8-508F-4FE4-A261-9D69CEF8F028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38400" y="495360"/>
            <a:ext cx="75798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mmunikációs komplexit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 = # tét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 = # licitá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 = aukciókénti max # odaítélések (csoportos aukció), 1 ≤ m ≤ 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őztesek” = árverező csak a győzteseket értesí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őztesek + vesztesek” = árverező a veszteseket is értesí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8532720" cy="197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B88-26E9-4DB0-891A-AB5EEE50F8E5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461880" y="404640"/>
            <a:ext cx="6986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méleti anali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 team célkitű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um, MiniMax, Mini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 licitszab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 pálya licitszab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dSumPath, BidMaxPath, BidAve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 fa licitszab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dSumTree, BidMaxTree, BidAve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am hatékonyság: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8 alsó, felső korl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st-case költségar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költséghez viszonyí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 elméleti garanciák aukció alapú koordinálás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6C7-8CC9-443A-9DFE-E1B863BEF90A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404640"/>
            <a:ext cx="792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nalitikus eredmény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ens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és m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arány = team költség licitből / minimális team 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24720" cy="421956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340000" y="2924280"/>
            <a:ext cx="1871640" cy="649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890-3466-4AE9-B311-F9794161AB0B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38480" y="333360"/>
            <a:ext cx="4787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 lici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 ágens, 10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nem klaszt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lakú cél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mert terep 51 x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611280" y="2138400"/>
          <a:ext cx="7777080" cy="2281320"/>
        </p:xfrm>
        <a:graphic>
          <a:graphicData uri="http://schemas.openxmlformats.org/drawingml/2006/table">
            <a:tbl>
              <a:tblPr/>
              <a:tblGrid>
                <a:gridCol w="4959360"/>
                <a:gridCol w="981000"/>
                <a:gridCol w="981000"/>
                <a:gridCol w="85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Sum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193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Max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125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Ave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59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ális (MIP) = ideális kombinatorikus aukci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9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9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5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552-64C9-4EDB-A18B-864082E6B047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7" name=""/>
          <p:cNvGraphicFramePr/>
          <p:nvPr/>
        </p:nvGraphicFramePr>
        <p:xfrm>
          <a:off x="468360" y="1989000"/>
          <a:ext cx="7848720" cy="2735280"/>
        </p:xfrm>
        <a:graphic>
          <a:graphicData uri="http://schemas.openxmlformats.org/drawingml/2006/table">
            <a:tbl>
              <a:tblPr/>
              <a:tblGrid>
                <a:gridCol w="4965480"/>
                <a:gridCol w="1044720"/>
                <a:gridCol w="981000"/>
                <a:gridCol w="85752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Sum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134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Max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9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Ave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5"/>
                          </a:solidFill>
                          <a:latin typeface="Arial"/>
                          <a:ea typeface="Times New Roman"/>
                        </a:rPr>
                        <a:t>49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ális (MIP) = ideális kombinatorikus aukci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32.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5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8" name=""/>
          <p:cNvSpPr/>
          <p:nvPr/>
        </p:nvSpPr>
        <p:spPr>
          <a:xfrm>
            <a:off x="439200" y="333360"/>
            <a:ext cx="4222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ekvenciális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álya lici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 ágens, 10 </a:t>
            </a:r>
            <a:r>
              <a:rPr b="0" lang="hu-HU" sz="2000" spc="-1" strike="noStrike">
                <a:solidFill>
                  <a:srgbClr val="ff0066"/>
                </a:solidFill>
                <a:latin typeface="Arial"/>
              </a:rPr>
              <a:t>klaszt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lakú cél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mert terep 51 x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FAB-6EEA-480B-A352-880E3BE1D9B4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693440" y="1413000"/>
            <a:ext cx="5365440" cy="2792160"/>
            <a:chOff x="1693440" y="1413000"/>
            <a:chExt cx="5365440" cy="2792160"/>
          </a:xfrm>
        </p:grpSpPr>
        <p:grpSp>
          <p:nvGrpSpPr>
            <p:cNvPr id="134" name=""/>
            <p:cNvGrpSpPr/>
            <p:nvPr/>
          </p:nvGrpSpPr>
          <p:grpSpPr>
            <a:xfrm>
              <a:off x="1693440" y="1413000"/>
              <a:ext cx="5365440" cy="2792160"/>
              <a:chOff x="1693440" y="1413000"/>
              <a:chExt cx="5365440" cy="279216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763640" y="1413000"/>
                <a:ext cx="5295240" cy="2792160"/>
                <a:chOff x="1763640" y="1413000"/>
                <a:chExt cx="5295240" cy="2792160"/>
              </a:xfrm>
            </p:grpSpPr>
            <p:pic>
              <p:nvPicPr>
                <p:cNvPr id="136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2205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3640" y="3213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60720" y="2205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87640" y="314172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60720" y="141300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860720" y="343044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2" name=""/>
              <p:cNvSpPr/>
              <p:nvPr/>
            </p:nvSpPr>
            <p:spPr>
              <a:xfrm>
                <a:off x="1693440" y="1844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93440" y="285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46520" y="1844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89440" y="28526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291280" y="1916280"/>
              <a:ext cx="129672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66560" y="2421000"/>
              <a:ext cx="424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364000" y="3357720"/>
              <a:ext cx="115272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66920" y="3284640"/>
              <a:ext cx="41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84720" y="4046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: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EC1-B564-4A14-9429-780608C6D79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29560" y="549360"/>
            <a:ext cx="65419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llel au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felesleges különböző ágenseket ugyanahhoz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pontklaszterhez küld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03280" y="1413000"/>
            <a:ext cx="5977080" cy="2792160"/>
            <a:chOff x="1403280" y="1413000"/>
            <a:chExt cx="5977080" cy="2792160"/>
          </a:xfrm>
        </p:grpSpPr>
        <p:grpSp>
          <p:nvGrpSpPr>
            <p:cNvPr id="153" name=""/>
            <p:cNvGrpSpPr/>
            <p:nvPr/>
          </p:nvGrpSpPr>
          <p:grpSpPr>
            <a:xfrm>
              <a:off x="1693440" y="1413000"/>
              <a:ext cx="5365440" cy="2792160"/>
              <a:chOff x="1693440" y="1413000"/>
              <a:chExt cx="5365440" cy="27921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1763640" y="1413000"/>
                <a:ext cx="5295240" cy="2792160"/>
                <a:chOff x="1763640" y="1413000"/>
                <a:chExt cx="5295240" cy="2792160"/>
              </a:xfrm>
            </p:grpSpPr>
            <p:pic>
              <p:nvPicPr>
                <p:cNvPr id="155" name="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2205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63640" y="3213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60720" y="220500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87640" y="3141720"/>
                  <a:ext cx="39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60720" y="141300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860720" y="3430440"/>
                  <a:ext cx="340920" cy="77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1" name=""/>
              <p:cNvSpPr/>
              <p:nvPr/>
            </p:nvSpPr>
            <p:spPr>
              <a:xfrm>
                <a:off x="1693440" y="1844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93440" y="285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46520" y="1844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89440" y="28526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291280" y="1916280"/>
              <a:ext cx="129672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266560" y="2421000"/>
              <a:ext cx="424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364000" y="3357720"/>
              <a:ext cx="115272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66920" y="3284640"/>
              <a:ext cx="41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3280" y="1773360"/>
              <a:ext cx="1297080" cy="215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1700280"/>
              <a:ext cx="1297080" cy="215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operáció és intelligencia, Dobrowiecki-Mészáros, BME-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6AE-40E0-46F3-B99C-4257D02FDF3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02:17Z</dcterms:created>
  <dc:creator>tade</dc:creator>
  <dc:description/>
  <dc:language>en-US</dc:language>
  <cp:lastModifiedBy>Tadeusz Dobrowiecki</cp:lastModifiedBy>
  <dcterms:modified xsi:type="dcterms:W3CDTF">2009-03-01T21:34:01Z</dcterms:modified>
  <cp:revision>235</cp:revision>
  <dc:subject/>
  <dc:title>Slide 1</dc:title>
</cp:coreProperties>
</file>