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98A-612F-4EA3-99DE-E8926A48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42C-8DDF-451E-9CED-229D2654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456-BF8A-4D91-BDCE-7E6EEA9B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8D1-903C-411D-88BC-29A74D72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2BA-8566-442D-BAE9-8F96EEA7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773-04A6-4467-934F-4DABDF33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931-AC6D-4A88-921D-A107EB4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EC5-2743-4935-B92D-76291F02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4B5-5887-43B8-AF8D-71EB6361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09D-6DB4-4071-9E4A-A390BDF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D92-3D33-40F0-8F97-C7F7345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0F4-AD1C-48D9-85DC-147F43C2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5E1-798E-400C-B3F7-B0C944AD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debian.org/vote/2003/vote_0002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ffects_of_different_voting_systems_under_similar_circumstances" TargetMode="External"/><Relationship Id="rId2" Type="http://schemas.openxmlformats.org/officeDocument/2006/relationships/image" Target="../media/image20.png"/><Relationship Id="rId3" Type="http://schemas.openxmlformats.org/officeDocument/2006/relationships/hyperlink" Target="http://en.wikipedia.org/wiki/File:Tennessee_map_for_voting_example.svg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ajority_criterion" TargetMode="External"/><Relationship Id="rId2" Type="http://schemas.openxmlformats.org/officeDocument/2006/relationships/hyperlink" Target="http://en.wikipedia.org/wiki/Monotonicity_criterion" TargetMode="External"/><Relationship Id="rId3" Type="http://schemas.openxmlformats.org/officeDocument/2006/relationships/hyperlink" Target="http://en.wikipedia.org/wiki/Consistency_criterion" TargetMode="External"/><Relationship Id="rId4" Type="http://schemas.openxmlformats.org/officeDocument/2006/relationships/hyperlink" Target="http://en.wikipedia.org/wiki/Participation_criterion" TargetMode="External"/><Relationship Id="rId5" Type="http://schemas.openxmlformats.org/officeDocument/2006/relationships/hyperlink" Target="http://en.wikipedia.org/wiki/Condorcet_criterion" TargetMode="External"/><Relationship Id="rId6" Type="http://schemas.openxmlformats.org/officeDocument/2006/relationships/hyperlink" Target="http://en.wikipedia.org/wiki/Condorcet_loser_criterion" TargetMode="External"/><Relationship Id="rId7" Type="http://schemas.openxmlformats.org/officeDocument/2006/relationships/hyperlink" Target="http://en.wikipedia.org/wiki/Condorcet_loser_criterion" TargetMode="External"/><Relationship Id="rId8" Type="http://schemas.openxmlformats.org/officeDocument/2006/relationships/hyperlink" Target="http://en.wikipedia.org/wiki/Independence_of_irrelevant_alternatives" TargetMode="External"/><Relationship Id="rId9" Type="http://schemas.openxmlformats.org/officeDocument/2006/relationships/hyperlink" Target="http://en.wikipedia.org/wiki/Clone_independence" TargetMode="External"/><Relationship Id="rId10" Type="http://schemas.openxmlformats.org/officeDocument/2006/relationships/hyperlink" Target="http://en.wikipedia.org/wiki/Reversal_symmetry" TargetMode="External"/><Relationship Id="rId11" Type="http://schemas.openxmlformats.org/officeDocument/2006/relationships/hyperlink" Target="http://en.wikipedia.org/wiki/Approval_voting" TargetMode="External"/><Relationship Id="rId12" Type="http://schemas.openxmlformats.org/officeDocument/2006/relationships/hyperlink" Target="http://en.wikipedia.org/wiki/Majority_criterion#Approval_voting" TargetMode="External"/><Relationship Id="rId13" Type="http://schemas.openxmlformats.org/officeDocument/2006/relationships/hyperlink" Target="http://en.wikipedia.org/wiki/Condorcet_criterion#Approval_voting" TargetMode="External"/><Relationship Id="rId14" Type="http://schemas.openxmlformats.org/officeDocument/2006/relationships/hyperlink" Target="http://en.wikipedia.org/wiki/Voting_system#cite_note-ambiguous-1" TargetMode="External"/><Relationship Id="rId15" Type="http://schemas.openxmlformats.org/officeDocument/2006/relationships/hyperlink" Target="http://en.wikipedia.org/wiki/Borda_count" TargetMode="External"/><Relationship Id="rId16" Type="http://schemas.openxmlformats.org/officeDocument/2006/relationships/hyperlink" Target="http://en.wikipedia.org/wiki/Borda_count" TargetMode="External"/><Relationship Id="rId17" Type="http://schemas.openxmlformats.org/officeDocument/2006/relationships/hyperlink" Target="http://en.wikipedia.org/wiki/Majority_criterion#Borda_count" TargetMode="External"/><Relationship Id="rId18" Type="http://schemas.openxmlformats.org/officeDocument/2006/relationships/hyperlink" Target="http://en.wikipedia.org/wiki/Condorcet_criterion#Borda_count" TargetMode="External"/><Relationship Id="rId19" Type="http://schemas.openxmlformats.org/officeDocument/2006/relationships/hyperlink" Target="http://en.wikipedia.org/wiki/Strategic_nomination" TargetMode="External"/><Relationship Id="rId20" Type="http://schemas.openxmlformats.org/officeDocument/2006/relationships/hyperlink" Target="http://en.wikipedia.org/wiki/Instant-runoff_voting" TargetMode="External"/><Relationship Id="rId21" Type="http://schemas.openxmlformats.org/officeDocument/2006/relationships/hyperlink" Target="http://en.wikipedia.org/wiki/Majority_criterion#Instant-runoff_voting" TargetMode="External"/><Relationship Id="rId22" Type="http://schemas.openxmlformats.org/officeDocument/2006/relationships/hyperlink" Target="http://en.wikipedia.org/wiki/Monotonicity_criterion#Instant-runoff_voting" TargetMode="External"/><Relationship Id="rId23" Type="http://schemas.openxmlformats.org/officeDocument/2006/relationships/hyperlink" Target="http://en.wikipedia.org/wiki/Condorcet_criterion#Instant-runoff_voting" TargetMode="External"/><Relationship Id="rId24" Type="http://schemas.openxmlformats.org/officeDocument/2006/relationships/hyperlink" Target="http://en.wikipedia.org/wiki/Voting_system#cite_note-irviocqualifier-2" TargetMode="External"/><Relationship Id="rId25" Type="http://schemas.openxmlformats.org/officeDocument/2006/relationships/hyperlink" Target="http://en.wikipedia.org/wiki/Kemeny-Young_method" TargetMode="External"/><Relationship Id="rId26" Type="http://schemas.openxmlformats.org/officeDocument/2006/relationships/hyperlink" Target="http://en.wikipedia.org/wiki/Kemeny-Young_method" TargetMode="External"/><Relationship Id="rId27" Type="http://schemas.openxmlformats.org/officeDocument/2006/relationships/hyperlink" Target="http://en.wikipedia.org/wiki/Majority_criterion#Kemeny-Young_method" TargetMode="External"/><Relationship Id="rId28" Type="http://schemas.openxmlformats.org/officeDocument/2006/relationships/hyperlink" Target="http://en.wikipedia.org/wiki/Condorcet_criterion#Kemeny-Young_method" TargetMode="External"/><Relationship Id="rId29" Type="http://schemas.openxmlformats.org/officeDocument/2006/relationships/hyperlink" Target="http://en.wikipedia.org/wiki/Minimax_Condorcet" TargetMode="External"/><Relationship Id="rId30" Type="http://schemas.openxmlformats.org/officeDocument/2006/relationships/hyperlink" Target="http://en.wikipedia.org/wiki/Majority_criterion#Minimax_Condorcet" TargetMode="External"/><Relationship Id="rId31" Type="http://schemas.openxmlformats.org/officeDocument/2006/relationships/hyperlink" Target="http://en.wikipedia.org/wiki/Condorcet_criterion#Minimax_Condorcet" TargetMode="External"/><Relationship Id="rId32" Type="http://schemas.openxmlformats.org/officeDocument/2006/relationships/hyperlink" Target="http://en.wikipedia.org/wiki/Vote-splitting" TargetMode="External"/><Relationship Id="rId33" Type="http://schemas.openxmlformats.org/officeDocument/2006/relationships/hyperlink" Target="http://en.wikipedia.org/wiki/Plurality_voting_system" TargetMode="External"/><Relationship Id="rId34" Type="http://schemas.openxmlformats.org/officeDocument/2006/relationships/hyperlink" Target="http://en.wikipedia.org/wiki/Majority_criterion#Plurality_voting_system" TargetMode="External"/><Relationship Id="rId35" Type="http://schemas.openxmlformats.org/officeDocument/2006/relationships/hyperlink" Target="http://en.wikipedia.org/wiki/Condorcet_criterion#Plurality_voting_system" TargetMode="External"/><Relationship Id="rId36" Type="http://schemas.openxmlformats.org/officeDocument/2006/relationships/hyperlink" Target="http://en.wikipedia.org/wiki/Vote-splitting" TargetMode="External"/><Relationship Id="rId37" Type="http://schemas.openxmlformats.org/officeDocument/2006/relationships/hyperlink" Target="http://en.wikipedia.org/wiki/Range_voting" TargetMode="External"/><Relationship Id="rId38" Type="http://schemas.openxmlformats.org/officeDocument/2006/relationships/hyperlink" Target="http://en.wikipedia.org/wiki/Majority_criterion#Range_voting" TargetMode="External"/><Relationship Id="rId39" Type="http://schemas.openxmlformats.org/officeDocument/2006/relationships/hyperlink" Target="http://en.wikipedia.org/wiki/Condorcet_criterion#Range_voting" TargetMode="External"/><Relationship Id="rId40" Type="http://schemas.openxmlformats.org/officeDocument/2006/relationships/hyperlink" Target="http://en.wikipedia.org/wiki/Voting_system#cite_note-ambiguous-1" TargetMode="External"/><Relationship Id="rId41" Type="http://schemas.openxmlformats.org/officeDocument/2006/relationships/hyperlink" Target="http://en.wikipedia.org/wiki/Ranked_Pairs" TargetMode="External"/><Relationship Id="rId42" Type="http://schemas.openxmlformats.org/officeDocument/2006/relationships/hyperlink" Target="http://en.wikipedia.org/wiki/Majority_criterion#Ranked_Pairs" TargetMode="External"/><Relationship Id="rId43" Type="http://schemas.openxmlformats.org/officeDocument/2006/relationships/hyperlink" Target="http://en.wikipedia.org/wiki/Condorcet_criterion#Ranked_Pairs" TargetMode="External"/><Relationship Id="rId44" Type="http://schemas.openxmlformats.org/officeDocument/2006/relationships/hyperlink" Target="http://en.wikipedia.org/wiki/Ranked_Pairs#Independence_of_irrelevant_alternatives" TargetMode="External"/><Relationship Id="rId45" Type="http://schemas.openxmlformats.org/officeDocument/2006/relationships/hyperlink" Target="http://en.wikipedia.org/wiki/Two-round_system" TargetMode="External"/><Relationship Id="rId46" Type="http://schemas.openxmlformats.org/officeDocument/2006/relationships/hyperlink" Target="http://en.wikipedia.org/wiki/Majority_criterion#Two-round_system" TargetMode="External"/><Relationship Id="rId47" Type="http://schemas.openxmlformats.org/officeDocument/2006/relationships/hyperlink" Target="http://en.wikipedia.org/wiki/Condorcet_criterion#Two-round_system" TargetMode="External"/><Relationship Id="rId4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Szavazás elmélet</a:t>
            </a: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racionális ágens, irracionális közössé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0B6-50CF-42E1-B368-14564C6B703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260280"/>
            <a:ext cx="8642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úlyozott rendezett szavazás - Borda szavazás (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k alternativa, integer minős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en szavazó rangsorol, a legrosszabb alternativa 0-t kap, a legjobb (k-1)-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emeleges = azonos sú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lternativánként összeg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redmény az alternativák teljes, tranzitiv szociális rend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42920" y="3141720"/>
          <a:ext cx="5905440" cy="1825560"/>
        </p:xfrm>
        <a:graphic>
          <a:graphicData uri="http://schemas.openxmlformats.org/drawingml/2006/table">
            <a:tbl>
              <a:tblPr/>
              <a:tblGrid>
                <a:gridCol w="804600"/>
                <a:gridCol w="601560"/>
                <a:gridCol w="560520"/>
                <a:gridCol w="563760"/>
                <a:gridCol w="403200"/>
                <a:gridCol w="441360"/>
                <a:gridCol w="563400"/>
                <a:gridCol w="560520"/>
                <a:gridCol w="561960"/>
                <a:gridCol w="84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978-01FB-410B-8244-0D1FDE47159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260280"/>
            <a:ext cx="86421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úlyozott rendezett szavazás - Borda szavazás (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apvető probléma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Győztesből vesztes – paradox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B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B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w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B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gyük fel, hogy kiderül, z érvénytele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gyük z-t utolsónak, a rendezésnek maradnia kelle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 és w megmérettetésében z egy irreleváns altern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érül a „irreleváns alternativától való függetlenség” elve. A döntés nem logikus, manipulálha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3860640"/>
          <a:ext cx="3457440" cy="1825920"/>
        </p:xfrm>
        <a:graphic>
          <a:graphicData uri="http://schemas.openxmlformats.org/drawingml/2006/table">
            <a:tbl>
              <a:tblPr/>
              <a:tblGrid>
                <a:gridCol w="363600"/>
                <a:gridCol w="363600"/>
                <a:gridCol w="363240"/>
                <a:gridCol w="365400"/>
                <a:gridCol w="365040"/>
                <a:gridCol w="363600"/>
                <a:gridCol w="363600"/>
                <a:gridCol w="363240"/>
                <a:gridCol w="546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716360" y="3860640"/>
          <a:ext cx="3240000" cy="1825560"/>
        </p:xfrm>
        <a:graphic>
          <a:graphicData uri="http://schemas.openxmlformats.org/drawingml/2006/table">
            <a:tbl>
              <a:tblPr/>
              <a:tblGrid>
                <a:gridCol w="341280"/>
                <a:gridCol w="341280"/>
                <a:gridCol w="341280"/>
                <a:gridCol w="339840"/>
                <a:gridCol w="341280"/>
                <a:gridCol w="341280"/>
                <a:gridCol w="341280"/>
                <a:gridCol w="341280"/>
                <a:gridCol w="51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E58-D118-4562-B01D-30354C4048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1200" y="476280"/>
            <a:ext cx="8754840" cy="51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aradoxon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győztes a vesztessel szemben páronkénti megmérettetésben alulmar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ondorcet győztes: páronként mindenkinél jo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2         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 a Condorcet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érül a Condorcet kritérium (ha van Condorcet győztes, akkor őt kell megválasztani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1417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3284640"/>
            <a:ext cx="1440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724360" y="3068640"/>
          <a:ext cx="2664000" cy="1825560"/>
        </p:xfrm>
        <a:graphic>
          <a:graphicData uri="http://schemas.openxmlformats.org/drawingml/2006/table">
            <a:tbl>
              <a:tblPr/>
              <a:tblGrid>
                <a:gridCol w="419040"/>
                <a:gridCol w="349200"/>
                <a:gridCol w="347760"/>
                <a:gridCol w="347760"/>
                <a:gridCol w="347760"/>
                <a:gridCol w="34740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A67-81B8-4226-BA07-F1C3E50F6C6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840" y="471600"/>
            <a:ext cx="80582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orda szavazás érzékeny a manipulálásra a jelöltek kivonásáv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agy hozzáadásá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0 szavazó  60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40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3280" y="1628640"/>
          <a:ext cx="2376720" cy="1460520"/>
        </p:xfrm>
        <a:graphic>
          <a:graphicData uri="http://schemas.openxmlformats.org/drawingml/2006/table">
            <a:tbl>
              <a:tblPr/>
              <a:tblGrid>
                <a:gridCol w="452160"/>
                <a:gridCol w="679680"/>
                <a:gridCol w="679680"/>
                <a:gridCol w="56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00320" y="3429000"/>
            <a:ext cx="766656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ényeg: egy „irreleváns” alternativa, y-hoz köz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klónozás, érzékenység a klónozás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a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b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C21-1662-4C99-95B7-9C2881BCF77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7440" y="2565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,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404640"/>
          <a:ext cx="7129440" cy="1825920"/>
        </p:xfrm>
        <a:graphic>
          <a:graphicData uri="http://schemas.openxmlformats.org/drawingml/2006/table">
            <a:tbl>
              <a:tblPr/>
              <a:tblGrid>
                <a:gridCol w="392040"/>
                <a:gridCol w="1044720"/>
                <a:gridCol w="1046160"/>
                <a:gridCol w="1044360"/>
                <a:gridCol w="1043280"/>
                <a:gridCol w="657000"/>
                <a:gridCol w="190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1a=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1b=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a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b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*n1a+2*n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1a+n2a+2*n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1b+2*n2a+n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11280" y="4653000"/>
            <a:ext cx="813744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1a+n2a+2*n2b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2*n1a+2*n1b  ...   n1a + n2b 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80    logika hiánya BC-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orda szabály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B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kor és csak akkor,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rreleváns alternativa hatása mindig benne v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63640" y="2492280"/>
          <a:ext cx="6696000" cy="1825560"/>
        </p:xfrm>
        <a:graphic>
          <a:graphicData uri="http://schemas.openxmlformats.org/drawingml/2006/table">
            <a:tbl>
              <a:tblPr/>
              <a:tblGrid>
                <a:gridCol w="374400"/>
                <a:gridCol w="998640"/>
                <a:gridCol w="998640"/>
                <a:gridCol w="879480"/>
                <a:gridCol w="998640"/>
                <a:gridCol w="628560"/>
                <a:gridCol w="18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1a=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1b=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a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b=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*n1a+2*n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1a+n2a+2*n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1b+2*n2a+n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356000" y="4653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5373720"/>
            <a:ext cx="71892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5300640"/>
            <a:ext cx="71928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F3F-F03A-4F77-8993-8E0060BEFE9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03200"/>
            <a:ext cx="81374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árdinális preferenciá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ohn Nash (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ohn Harsányi (19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ételek, hasznossági alapon , közösség optim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sh módsz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rdinális minősitések begyűjtése és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sszeszorzás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releváns alternativák problémája ma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3716280"/>
          <a:ext cx="8569080" cy="1825560"/>
        </p:xfrm>
        <a:graphic>
          <a:graphicData uri="http://schemas.openxmlformats.org/drawingml/2006/table">
            <a:tbl>
              <a:tblPr/>
              <a:tblGrid>
                <a:gridCol w="433440"/>
                <a:gridCol w="502920"/>
                <a:gridCol w="505080"/>
                <a:gridCol w="503280"/>
                <a:gridCol w="720720"/>
                <a:gridCol w="1295280"/>
                <a:gridCol w="865080"/>
                <a:gridCol w="37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orcet győz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=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, z ma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=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≻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y   22/43, x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≻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z   33/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=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≻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z 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=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≻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x  43/22,  y ≻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z  44/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=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≻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x  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=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≻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x  31/44,   z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≻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y  3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195640" y="5157720"/>
            <a:ext cx="79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4797360"/>
            <a:ext cx="151272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4797360"/>
            <a:ext cx="79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4797360"/>
            <a:ext cx="3456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885-93B7-4AC5-9F14-C3C9AF94296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400" y="639720"/>
            <a:ext cx="65782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páronkénti összehasonl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B kieséses bajnok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B szabály intranzitivi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, de  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2644920"/>
            <a:ext cx="5472360" cy="36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E39-88DA-47D4-9283-78291CCA24C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440" y="476280"/>
            <a:ext cx="847548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1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D2 ?   =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1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R  ?  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 R-t kisebbség aka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1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D2,  R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D1,  helyes konkluzió-e  R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D2 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öbbség esetén mégs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mi van, ha D2 panasza érvényt kap (újbóli D2 ... R összehasonlit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2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R ?  D2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iklikus győztes vál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3716280"/>
          <a:ext cx="2087280" cy="1825560"/>
        </p:xfrm>
        <a:graphic>
          <a:graphicData uri="http://schemas.openxmlformats.org/drawingml/2006/table">
            <a:tbl>
              <a:tblPr/>
              <a:tblGrid>
                <a:gridCol w="544320"/>
                <a:gridCol w="514440"/>
                <a:gridCol w="514440"/>
                <a:gridCol w="51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2720" y="4076640"/>
            <a:ext cx="3600360" cy="25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68360" y="549360"/>
          <a:ext cx="2160720" cy="1460520"/>
        </p:xfrm>
        <a:graphic>
          <a:graphicData uri="http://schemas.openxmlformats.org/drawingml/2006/table">
            <a:tbl>
              <a:tblPr/>
              <a:tblGrid>
                <a:gridCol w="464760"/>
                <a:gridCol w="565560"/>
                <a:gridCol w="564480"/>
                <a:gridCol w="56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87800" y="5664240"/>
            <a:ext cx="368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,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w, 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.....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AEC-25AE-4C48-A8BB-3A4949B05AB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3360" y="476280"/>
            <a:ext cx="85978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avazási parado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gyéni preferenciák tranzitiviása ellenére a többségi szavazás nem a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ranzitiv preferencia a racionális gondolkodás, a cselekvés alapvető követelmény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öntésképes, racionális egyén tranzit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 a helyzet a közösséggel? Nem a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B, MT szabályok alapj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May té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ciklusok ritk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 szavazó, 3 alternativa:  216 tip. közösség, ciklusok csak 12-ben = 5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szavazószám, alternativaszám nő, a ciklusok valószinűsége 1-hez 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zimuláci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8DC-C825-46CD-BC1B-94B3201ACA1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8360" y="279360"/>
            <a:ext cx="7259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ondorcet megközelités – körforgó körmérkö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áronkénti összehasonlitás, mindenki mindenk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ndorcet krité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ha van Condorcet győztes – ez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ha nics, információ kiaknázá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852640"/>
            <a:ext cx="4898880" cy="31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. Smith krité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 kivánatos alternativák eliminá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győzhetetlen alternativák keresé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mith halma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z alábbi 2 halmaz kiseb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. az összes alternativák X halm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. egy olyan A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, hogy A min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eme győz az X minden elemével szem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x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és y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-A, akkor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40360" y="765000"/>
            <a:ext cx="2949480" cy="324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2028960" cy="2533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1835280" y="2707920"/>
            <a:ext cx="4752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AFE-929C-4E97-9392-A372741CDA4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8820000" cy="55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avazás elmélet: racionális ágens, irracionális közö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referenciák tranzitivitás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humán racionálitás alapveto aspektu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elyes világfelfogás kifej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ranzi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&gt; y, y &gt; z 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x &gt;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e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 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alább olyan j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u-H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≽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differen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I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m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Jáno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rte, kör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4000">
                <a:solidFill>
                  <a:srgbClr val="000000"/>
                </a:solidFill>
                <a:latin typeface="Arial"/>
              </a:rPr>
              <a:t>Jáno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zil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várt”, h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m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Jáno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z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i felé haladun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éni racionális preferencia tranzit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 a szavazási mechanizmus révén kialakit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ociális preferencia NEM tranzi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981000"/>
            <a:ext cx="7561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8CA-2443-4D57-9A2D-9A3B1CAB23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6200" y="260280"/>
            <a:ext cx="876780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. Győzelem-veszteg mérleg (Copeland szabá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nativa súlya =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őzelem -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szte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ciklus van, sok döntetlen helyzet vár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3. Aggregált párokénti szavazás (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iklus ellenére tranzitiv sorrendezés, nincs semleges szava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aggregált szavazata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. aggregált szavazás Condorcet győztest soha sem rangsorol utolsó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. aggregált szavazás Condorcet vesztest soha sem rangsorol első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blémák: páronkénti összehasonlitás és az aggregált sor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,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ndben van, nincs anomá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,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 itt nem, anomá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,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 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et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x = Condorcet győz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regált szavazás = Borda szavazá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gyjából csak az esetek kevesebb, mint a fele lehetséges (ezen belül anomáli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ás szavazás: akármi történth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9F0-6790-4250-B6E0-14549FD5CB6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1560" y="404640"/>
            <a:ext cx="8626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4. Schultze-féle módszer (1997, 2003) (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loneproof Schwartz Sequent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atpath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e-mail, internet posting) döntéshozatal Debian Linux projekt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ha létezik Condorcet győztes,  SM megválasz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semlegesség, anonimitás, monotonitás, klón-függetlenség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mith-IIA: ha egy jelöltet hozzáadunk, csak akkor lehet befolyáss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benne van a Smith halmaz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azó: rangsorolás tetszőleges számú (nem szükségképpen az összes) jelöltrő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 rangsoroltak felcserélhetők, a rangsoroltak mögé kerül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1560" y="3860640"/>
            <a:ext cx="8245800" cy="23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ranzitiv győzele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tranzitive győz y-nal szemben, ha létezik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..., ..., ...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lá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nnak ellenére, hogy pl. közvetlenül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ánc erősség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minimális győzelmi margó a láncbeli két alternativája közö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x-től y-ig a legerősebb lánc erőssé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: olyan, a legerősebb láncokkal rendelkező alternativát megtalál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i minden más alternativát legyőz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x kizárja y-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FE2-8DEA-46B0-B4E8-E67765CFB83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30120" y="404640"/>
            <a:ext cx="617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em kizárt alternativák a „potenciális győztesek” halm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,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több, döntési eljá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 csapat, hány szavazó gondolja jobb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U,AU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U,USC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,OU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,USC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SC,OU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SC,AU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SC,OU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U,USC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USC kizárja OU-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SC,AU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,USC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SC kizárja AU-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SC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40338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4AD-B7DC-4667-9BAE-71D13436713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9480" y="476280"/>
            <a:ext cx="8494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hultze módsz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szekvenciális jelölterősség mér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gyengék eliminá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újbóli értékelé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un. Schwartz halmaz újraszámit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mith halmaz (S) a „legfontosabb győztesek ciklus halmaz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wartz halmaz = Smith halmaz javitott változ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hwartz halma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páronkénti összehasonlitásban legyőzhetetlen (győzelem, vagy döntet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tranzitive győz minden mással szemben, ami tranzitive fenye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, ha minden olyan y-ra, amire 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0, 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, ha van olyan x, amire 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0, de P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nincsenek páronként döntetlen szavazatok: Smith halmaz = Schwartz halm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vannak, Schwartz halmaz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mith halm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37B-EA9E-4683-A164-9008BBE2A3F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138480" cy="352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9800" y="39337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wartz =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327960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916360" y="3068640"/>
            <a:ext cx="3112920" cy="348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30160" y="422100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zaggatott = döntet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480-5E25-4A3B-9703-FCD0E099A51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827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08840" y="5805360"/>
            <a:ext cx="4580640" cy="368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ebian.org/vote/2003/vote_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ED8-CB1B-4975-8D88-BAF4A106B69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114200" y="189000"/>
            <a:ext cx="11327760" cy="62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chwartz szekvenciális szavaz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azói rangsorolások begyűjtése (egy szavazó összes alternativa, 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ak néhány, semleges szavazat 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redmény: 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x I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vagy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Kizárások permanens eliminálása Schwartz halmaz számitás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A maradó jelöltek értekelé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. csak egy: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. ha mindenki döntetlenre áll, ld. 4. lép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. „a leggyengébb győztes” keresése = alternativa min. győzelmi szavaza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őzelem törlése:  : 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x I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több ilyen, akkor törlés annál, aminél többen szavaztak a vesztes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belőle is több van, egyforma törlé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ssza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„Potenciális győztesek” halmaza, döntetlen helyzet eldönté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életlenül választott szavazók vélemény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ha minden jelölt rendezett, akkor megvan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ha nem, akkor amire van eredmény, pl.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8000">
                <a:solidFill>
                  <a:srgbClr val="000000"/>
                </a:solidFill>
                <a:latin typeface="Arial"/>
              </a:rPr>
              <a:t>Schultz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, eltessz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újra véletlen mintavételezés (az előbbi rendezések lefixálásával), amig mi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áronkénti összehasonlitás nem lesz minősit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ha a szavazatok kifogytak és nincs rangsorolás, véletlen rangsorol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00D-58FC-4B62-A321-AB893700776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27640" y="549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gyengébb győzelemből döntet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Schwartz halm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333360"/>
          <a:ext cx="3673440" cy="1825560"/>
        </p:xfrm>
        <a:graphic>
          <a:graphicData uri="http://schemas.openxmlformats.org/drawingml/2006/table">
            <a:tbl>
              <a:tblPr/>
              <a:tblGrid>
                <a:gridCol w="387360"/>
                <a:gridCol w="385920"/>
                <a:gridCol w="387360"/>
                <a:gridCol w="385560"/>
                <a:gridCol w="387360"/>
                <a:gridCol w="385920"/>
                <a:gridCol w="387360"/>
                <a:gridCol w="387360"/>
                <a:gridCol w="57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2663640" cy="2585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2592360" cy="2579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808360" cy="256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049-9E0A-4CBA-98CE-A8AC279DBED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663640" cy="2586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132000" y="476280"/>
            <a:ext cx="2592360" cy="2579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867280" y="549360"/>
            <a:ext cx="2808360" cy="2560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2592360" cy="251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203640" y="3284640"/>
            <a:ext cx="2401920" cy="2449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867280" y="3357720"/>
            <a:ext cx="2352960" cy="23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AA6-63AD-4178-8B91-9363B5A53C7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0120" y="549360"/>
            <a:ext cx="851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ultze módszer kikerüli a BC paradoxonj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C figyelembe veszi a z „rontó” hatását és eltériti az eredményt w-től y érdeké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z eliminálódik, BC is w-t látja győztes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lnenérv: „túlságosan komplikál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vi szem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akorlati szem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litikai szem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azó szempontjából ugyanolyan egyszer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73360"/>
            <a:ext cx="489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17B-B245-44DF-BFEF-CFA9F68215B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1720" y="547560"/>
            <a:ext cx="745020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rdinális v.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dinális p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nnyire?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Jáno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-----------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---------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            y                     x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rdináli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ak rangsor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rdináli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inomabb, precizeb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lágban a szavazási mechanizmusok többsége ordiná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736-392C-4ABA-9963-56DEEA2A598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9760" y="404640"/>
            <a:ext cx="734796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ultze módszer –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vételi kritérium sérü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vételi kritériu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a szavazás eldölt, és olyan szavazókat adunk hozz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ik a győztest preferálják egy másik alternativával szemb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kor az a másik alternativa nem lehet újbóli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a győztes,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Schultz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+:  szavazók, akik: 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edmény nem lehet: 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Schultz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C77-3866-4354-A3C9-A1CAD36D649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00000" y="476280"/>
          <a:ext cx="7056360" cy="3651120"/>
        </p:xfrm>
        <a:graphic>
          <a:graphicData uri="http://schemas.openxmlformats.org/drawingml/2006/table">
            <a:tbl>
              <a:tblPr/>
              <a:tblGrid>
                <a:gridCol w="429840"/>
                <a:gridCol w="430200"/>
                <a:gridCol w="429840"/>
                <a:gridCol w="430200"/>
                <a:gridCol w="502560"/>
                <a:gridCol w="429840"/>
                <a:gridCol w="501120"/>
                <a:gridCol w="502920"/>
                <a:gridCol w="500760"/>
                <a:gridCol w="502920"/>
                <a:gridCol w="573480"/>
                <a:gridCol w="501120"/>
                <a:gridCol w="573840"/>
                <a:gridCol w="216000"/>
                <a:gridCol w="53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990520" y="472428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zavazás 1-12: u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zavazás 1-13: x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C27-2F60-465D-ADE1-C0F30DD61804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2120" y="351000"/>
            <a:ext cx="8192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 szavazatú” választási rendszerek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irtuális több fordulós (V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azás: alternativák rangsoro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tékelés: virtuális két fordul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őztes: kvóta = minősitett többség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azó +1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Többségi győztes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 Nincs többségi győztes. Legkisebb szavazattal rendelkező jelölt eliminá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avazatok átemelése a másodiknak rangsorolt jelölt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ssz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4880" y="4221000"/>
            <a:ext cx="72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blázat 1-12: eliminálás: v, w, y, u, marad x és z, 30 – 30 szavaza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blázat 1-13: eliminálás: v, w, y, u, marad x és z, 30 – 33 szavaza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ujak z-t preferálták x helyett), O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1E7-F999-4EE5-A21B-CBCC28A0C408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30840" y="333360"/>
            <a:ext cx="786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érü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Condorcet győztes megválasztása (ha van) nincs garantá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nem mono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notonitási kritériu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szavazási rendszernek reaktivnak kell lennie,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észséges” módon. Ha valamelyik szavazó meggondolja magát és 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nativát jobban értékel, akkor ez e alternativa esélyeit kell, hogy segit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 legalább ne ront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63640" y="2852640"/>
          <a:ext cx="4320720" cy="2556000"/>
        </p:xfrm>
        <a:graphic>
          <a:graphicData uri="http://schemas.openxmlformats.org/drawingml/2006/table">
            <a:tbl>
              <a:tblPr/>
              <a:tblGrid>
                <a:gridCol w="690480"/>
                <a:gridCol w="721440"/>
                <a:gridCol w="722160"/>
                <a:gridCol w="719640"/>
                <a:gridCol w="721440"/>
                <a:gridCol w="745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08D-6CB6-4C38-891A-6F1D8B52916B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24000" y="260280"/>
          <a:ext cx="3168360" cy="2556000"/>
        </p:xfrm>
        <a:graphic>
          <a:graphicData uri="http://schemas.openxmlformats.org/drawingml/2006/table">
            <a:tbl>
              <a:tblPr/>
              <a:tblGrid>
                <a:gridCol w="431640"/>
                <a:gridCol w="576360"/>
                <a:gridCol w="576000"/>
                <a:gridCol w="576360"/>
                <a:gridCol w="50328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708000" y="33336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w=9, x=6, y=6, z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z eliminá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3068640"/>
          <a:ext cx="2879640" cy="233028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433440"/>
                <a:gridCol w="503280"/>
                <a:gridCol w="504720"/>
                <a:gridCol w="50328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564720" y="299736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’. x=11, w=9, y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’. y eliminá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651640" y="3500280"/>
          <a:ext cx="2519280" cy="1825920"/>
        </p:xfrm>
        <a:graphic>
          <a:graphicData uri="http://schemas.openxmlformats.org/drawingml/2006/table">
            <a:tbl>
              <a:tblPr/>
              <a:tblGrid>
                <a:gridCol w="437760"/>
                <a:gridCol w="414360"/>
                <a:gridCol w="412920"/>
                <a:gridCol w="414360"/>
                <a:gridCol w="412560"/>
                <a:gridCol w="42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5797080" y="558972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’’. x=17, w=9, x a győz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1B0-CA26-4860-AEEF-B92ADBD8B28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3240" y="2602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 most tegyük előbbre x-t a 3-as csoportn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765000"/>
          <a:ext cx="2808000" cy="2556000"/>
        </p:xfrm>
        <a:graphic>
          <a:graphicData uri="http://schemas.openxmlformats.org/drawingml/2006/table">
            <a:tbl>
              <a:tblPr/>
              <a:tblGrid>
                <a:gridCol w="488520"/>
                <a:gridCol w="460440"/>
                <a:gridCol w="460440"/>
                <a:gridCol w="396720"/>
                <a:gridCol w="52560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3419280" y="76500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w=9, x=8, y=4, z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y eliminá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9640" y="3716280"/>
          <a:ext cx="2232000" cy="2190960"/>
        </p:xfrm>
        <a:graphic>
          <a:graphicData uri="http://schemas.openxmlformats.org/drawingml/2006/table">
            <a:tbl>
              <a:tblPr/>
              <a:tblGrid>
                <a:gridCol w="388800"/>
                <a:gridCol w="365040"/>
                <a:gridCol w="366840"/>
                <a:gridCol w="366840"/>
                <a:gridCol w="366480"/>
                <a:gridCol w="37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3059640" y="357336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’. x=8, w=9, z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’. x eliminá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35640" y="3357720"/>
          <a:ext cx="2340000" cy="1825560"/>
        </p:xfrm>
        <a:graphic>
          <a:graphicData uri="http://schemas.openxmlformats.org/drawingml/2006/table">
            <a:tbl>
              <a:tblPr/>
              <a:tblGrid>
                <a:gridCol w="406440"/>
                <a:gridCol w="384120"/>
                <a:gridCol w="384120"/>
                <a:gridCol w="384120"/>
                <a:gridCol w="38448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5653080" y="544500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’’. w=9, z=17, z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844640"/>
            <a:ext cx="36036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403-6924-4754-A697-BB38DCC53A22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8840" y="189000"/>
            <a:ext cx="849888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kluz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rrow tét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etlen kidolgozni egy olyan szavazási rendszert, 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ljesitene, ami minimális alapvető követelménynek tün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gyük fel, hogy egy választási rendszer rendelkez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látszólag elemi szükség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diktatorik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 szociális preferencia nem tükröz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lamelyik egyéni preferenciát, a többi szavazó preferenciájátó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üggetlen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areto-elv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ha minden szavazó egy alternativát jobbnak 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ásnál, akkor a szociális preferenciának ezt tükröznie k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egy választási rendszer nemdiktatorikus és teljesiti a Pareto-elve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kor található olyan választói halmaz, ahol a szociális prefer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ranzitiv (szavazási ciklus), és/vagy sérül az irreleváns alternativa függetlensé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Arrow%27s_impossibility_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Melyik választási rendszer problémái legkevésbé zavarók az ado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közösség gyakorlatá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98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DA4-FBF6-40AA-A125-626AE643352B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1280" y="484200"/>
            <a:ext cx="861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of different voting systems under similar circum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en.wikipedia.org/wiki/Effects_of_different_voting_systems_under_similar_circum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6335640" cy="158724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3"/>
          </p:cNvPr>
          <p:cNvSpPr/>
          <p:nvPr/>
        </p:nvSpPr>
        <p:spPr>
          <a:xfrm>
            <a:off x="-1440" y="36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440" y="1968480"/>
            <a:ext cx="7407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4360" y="3500280"/>
          <a:ext cx="7488000" cy="1892520"/>
        </p:xfrm>
        <a:graphic>
          <a:graphicData uri="http://schemas.openxmlformats.org/drawingml/2006/table">
            <a:tbl>
              <a:tblPr/>
              <a:tblGrid>
                <a:gridCol w="1989000"/>
                <a:gridCol w="1716120"/>
                <a:gridCol w="2028960"/>
                <a:gridCol w="17539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 of voter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lose to Memph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 of voter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lose to Nashvil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 of voter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lose to Chattanoog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 of voter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lose to Knoxvil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eedd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ph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shvi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ttanoog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xvi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shvil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ttanoog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xvi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ph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ttanoog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xvi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shvi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ph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xvil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ttanoog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shvi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ph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-1440" y="488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0680" y="5661000"/>
            <a:ext cx="44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Voting_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BFB-270B-4879-B12F-F4057CC592F4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723960" y="1357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89000"/>
          <a:ext cx="8713800" cy="6426000"/>
        </p:xfrm>
        <a:graphic>
          <a:graphicData uri="http://schemas.openxmlformats.org/drawingml/2006/table">
            <a:tbl>
              <a:tblPr/>
              <a:tblGrid>
                <a:gridCol w="993960"/>
                <a:gridCol w="736560"/>
                <a:gridCol w="649080"/>
                <a:gridCol w="1365480"/>
                <a:gridCol w="718920"/>
                <a:gridCol w="1081080"/>
                <a:gridCol w="933480"/>
                <a:gridCol w="1138320"/>
                <a:gridCol w="1096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aj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Mon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Consistency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&amp;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Partic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Condorc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Condorcet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 lo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I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Clone indepe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Reversal symme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Ambigu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guous</a:t>
                      </a:r>
                      <a:r>
                        <a:rPr b="0" lang="en-US" sz="14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Borda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 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(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teaming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I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r>
                        <a:rPr b="0" lang="en-US" sz="14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[3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Kemeny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-Yo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Mini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(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vote-splitting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Plur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(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vote-splitting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Range vo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guous</a:t>
                      </a:r>
                      <a:r>
                        <a:rPr b="0" lang="en-US" sz="14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Ranked Pa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ee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local IIA note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Runoff vo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(vote-splitt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ul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ee local IIA no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ddffdd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404-D4B6-4E6C-84D8-42E7818F349C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9400" y="404640"/>
            <a:ext cx="8224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ndorcet hatékony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ltételes valószinűség, hogy a szavazás Condorcet győztest válasz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ltéve, hogy létez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orda szazavás maximális Condorcet hatékonyság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ndorcet győztes közelitése - Dodgson szabály (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azás, ahol nincs Condorcet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lölt, aki legközelebb lenne a Condorcet győztesh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kisebb számú változás szavazói preferenciáb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gy a jelölt Condorcet győztes legy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ohn Kemeny (19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azás, ahol nincs teljes tranzitiv rangsor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avazási eredményhez illeszked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közelebbi tranzitiv rangsorol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340-8E17-4890-A153-ABAE0CE8331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620640"/>
            <a:ext cx="7842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mokrácia lényege nem a szavazás, hanem a szavazat számlálás mód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ap mechaniz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a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 szava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elterjedte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bbség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zavazás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luralit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rule)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B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 győztes, akinek legtöbb szavazata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ositett többség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zavazás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ajorit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rule)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 győztes, akié a szavazatok több, mint a f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7400" y="1125360"/>
            <a:ext cx="4924800" cy="58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's not the voting that's democracy, it's the count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Stoppard (1937 - ), Jumpers (1972) act 1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D28-556A-49D9-A5E4-54E48921035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684360" y="549360"/>
          <a:ext cx="2089080" cy="1825560"/>
        </p:xfrm>
        <a:graphic>
          <a:graphicData uri="http://schemas.openxmlformats.org/drawingml/2006/table">
            <a:tbl>
              <a:tblPr/>
              <a:tblGrid>
                <a:gridCol w="544680"/>
                <a:gridCol w="546120"/>
                <a:gridCol w="453960"/>
                <a:gridCol w="544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29800" y="3144960"/>
            <a:ext cx="466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őzelmi marg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6,24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3,17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3,17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9,2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3,17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3,17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7440" y="620640"/>
            <a:ext cx="54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ndorcet győztes közelitése - Dodgson szab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3357720"/>
            <a:ext cx="4680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07800" y="532116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z a győztes (majdnem Condorcet győz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A81-A74D-4E07-9FC7-FF328123FB9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4560" y="404640"/>
            <a:ext cx="77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ibrid szavazási protokollok 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anipulálási komplexitás elmé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3920" y="1273320"/>
            <a:ext cx="825624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nipulálás –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oftver ágens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több veszély, lehető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szeri algoritmus tervezés, másolás nagy számú ágensn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 stratégiai szavazás esélye, sikeressége n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 nem befolyásolják emociók, irracionáli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Ágens – több számitási kapacitás, könnyebb hatékony manipulálást megtalá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gens szavazás – megnővelt anonimitás, kevesebb fenntartás a közösség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torlással szem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anipulálá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 manipuláló információja a nem manipulálókró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 teljes, tel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Ki manipulál: egyén, koáli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Súlyozott, nem súlyozott szavaz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Manipulálás cé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nstruktiv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őzelemre vinni vala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struktiv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sztésre vinni vala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nipulálás számitási nehézsé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B33-77D3-4B40-ACD4-9D0606C434C8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50800" y="1484280"/>
            <a:ext cx="730728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ibrid szavazási protokoll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yb(X</a:t>
            </a:r>
            <a:r>
              <a:rPr b="1" lang="hu-HU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protokoll k lépésben, jelöltek fokozatos eliminálás, majd Y protokol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aradék jelölt halma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kor könnyen, mikor nehezen manipulál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orda könnyen manipulálható,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yb(Borda</a:t>
            </a:r>
            <a:r>
              <a:rPr b="1" lang="hu-HU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,Borda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ár NP nehezen manipulál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4560" y="404640"/>
            <a:ext cx="77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ibrid szavazási protokollok 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anipulálási komplexitás elmé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894-7E6D-4DAD-877C-7AEB2B8B2044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549360"/>
            <a:ext cx="83725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övetkező HF adag (kis HF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vezze 4 ágensből (egy döntnök és 3 szavazó) álló ágensközösséget, amely Borda protokollal hoz meg egy közös dönt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yen adva egy termékválaszték, mely egyes (nem szükségképpen az összes) elemeiről minden ágens megalkotja a személyes preferenciáját (alternativák rangsorolása, kezdeti hiedelem halma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öntnök ágens egy termékvektort küld el minden ágensnek, amire mindegyikről egy numerikus vektort vár, ami az egyes ágensek rangsorolását tükrőzi. Amikor már mindenkitől befutott a válasz, a döntnök kiszámítja a végleges rangsorolást és ezt az eredményt minden ágensenk elkül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táridő: 2009. március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8F8-2E06-487B-8520-93AF7C280E08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8680" y="549360"/>
            <a:ext cx="795924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ét jelölt/alternativa esete - minden rend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,2,3, ..., n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feltétel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T szavaz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/n)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1/2  -ből következik  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8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ak mellette szavazat számit, aki semleges, az ellen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B szava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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: 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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-ből következik   x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emleges szavazó nem szá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semleges tartózkodik, TB = MT, különben 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D10-5EFC-4D9A-9585-00E679D9381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3080" y="566640"/>
            <a:ext cx="8329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öbbségi szavazás kiválóság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Kenneth) Ma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ét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19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emleges =/= ellensé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2 alternativa van, a TB egyetlen oly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öntési folyamat, ami az alábbi 3 alapfeltétell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nziszt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nonimit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minden szavazónak egyenlő a sú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emleges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átcimkézés egyéni preferenciákb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 u.a. átcimkézés az eredmény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(pozitivan reagá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rősen monot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holtverseny esetén, ha egyetlenegy szavazó x-n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dvező módon megváltoztatja a preferenciáit, akk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lesz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gyengén monot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ha x a győztes és egyetlenegy szavazó mé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kább jobban felértékeli, akkor x marad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The Kenneth O. May Medal"/>
          <p:cNvPicPr/>
          <p:nvPr/>
        </p:nvPicPr>
        <p:blipFill>
          <a:blip r:embed="rId1"/>
          <a:stretch/>
        </p:blipFill>
        <p:spPr>
          <a:xfrm>
            <a:off x="5940360" y="189000"/>
            <a:ext cx="3000600" cy="285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91B-A82C-4ABA-B887-0FCFE5B5F9C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8064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T szabály 2 jelölt esetén OK, de tendencia több jelöltre alkalmaz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ipikus kiterjeszté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iszta többségi szavaz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győz az, akinek legtöbb szavazata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lehet 50%-nál kevese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rős jelöltek egymást kinyirják, gyenge jelölt győ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ebbség tud diktá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ét forduló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run-off, RO) választás: győztes, ha minositett többséget ka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nincs, a legjobb kettő egymással szem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ima többség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ltsé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legyen:  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, x, y, z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03640" y="3645000"/>
          <a:ext cx="3047760" cy="2555640"/>
        </p:xfrm>
        <a:graphic>
          <a:graphicData uri="http://schemas.openxmlformats.org/drawingml/2006/table">
            <a:tbl>
              <a:tblPr/>
              <a:tblGrid>
                <a:gridCol w="606240"/>
                <a:gridCol w="600120"/>
                <a:gridCol w="635040"/>
                <a:gridCol w="635040"/>
                <a:gridCol w="57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F5E-6E6F-4449-A2E7-A72BCEA0670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99960" y="549360"/>
            <a:ext cx="44935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B szavaz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 győz 30 szavazattal (kisebbségi jelölt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 egyenkénti felmérésben mindenk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mben alulmarad, mégis győ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étforduló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incs minősitett többségi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t legjobb jelö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 (30), x (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ásodik fordul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(70), w (30), x a győ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404640"/>
          <a:ext cx="3048120" cy="2556000"/>
        </p:xfrm>
        <a:graphic>
          <a:graphicData uri="http://schemas.openxmlformats.org/drawingml/2006/table">
            <a:tbl>
              <a:tblPr/>
              <a:tblGrid>
                <a:gridCol w="606600"/>
                <a:gridCol w="600120"/>
                <a:gridCol w="635040"/>
                <a:gridCol w="635040"/>
                <a:gridCol w="57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01760" y="4508640"/>
            <a:ext cx="78922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i a z mellett vannak „joggal” panaszkodhatnak, hogy miért éppen 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a többségnél 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x 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ért nyert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setleg: nem őszinte (stratégiai) szavazás (pl. a második legjobbra), hogy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enge győztes esélyét csorbits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66B-5C4A-448D-B812-3728EBCC877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8680" y="333360"/>
            <a:ext cx="826416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bbségi szavazás problémája közism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00 körül, francia akadémai kör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an-Charles d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o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úlyozott ren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rie Jean Antoine Nicolas Carit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rquis d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ndorc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áronkénti gyóz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öbbség látszólagos akarata a tényle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aratával merőben ellentétes leh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3 kaliforniai kormányzó válasz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karod-e elmozditani a hivatalából Gray Davis kormányzó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ha igen 50% felett, akkor a 150 induló jelöltből TB szavazáss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rül ki a győz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5,4% ellene (azaz 44,6% burkoltan Davis mellett szavaz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győztes tényleges a többség győzte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rnold Schwartzenegg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8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1888920" cy="254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33400" cy="21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690-65A8-4B75-B457-9F145718E97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6:47:47Z</dcterms:created>
  <dc:creator>tade</dc:creator>
  <dc:description/>
  <dc:language>en-US</dc:language>
  <cp:lastModifiedBy>Tadeusz Dobrowiecki</cp:lastModifiedBy>
  <dcterms:modified xsi:type="dcterms:W3CDTF">2009-02-22T23:17:07Z</dcterms:modified>
  <cp:revision>412</cp:revision>
  <dc:subject/>
  <dc:title>1. dia</dc:title>
</cp:coreProperties>
</file>