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74A-6C82-44B5-8B0B-9725DFC5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AB2-0F54-41EB-AA5D-5BBC6989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B24-2B4A-4E70-B47F-644F9D97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7EC-4664-45DF-8256-9DC4B7DD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1E1-AF49-452D-BC17-D9F6DCE1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25F-3A43-4442-9A9B-228ED7FB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5D6-7EAE-4670-B414-F66F38C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1D5-0B6A-4409-9353-0E346912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40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EB1-F90F-4DF8-B780-0023D712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8EF-F75A-4586-9C0C-D70F19FB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29E-9CEC-4986-B9BC-1DCA4E57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E61-61F0-46DB-A052-A33B1E0B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72AC5-D66E-4E59-BFF2-0CA1A239BE2D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236760" y="3597120"/>
            <a:ext cx="185760" cy="162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00360" y="4317480"/>
            <a:ext cx="900360" cy="10861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32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236760" y="3597120"/>
            <a:ext cx="185760" cy="162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600360" y="4317480"/>
            <a:ext cx="900360" cy="10861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720" y="32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0000" y="4140360"/>
            <a:ext cx="107928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236760" y="3597120"/>
            <a:ext cx="185760" cy="162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600360" y="4317480"/>
            <a:ext cx="900360" cy="10861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60720" y="32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0000" y="4140360"/>
            <a:ext cx="1079280" cy="53964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40560" y="41544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7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