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0D7-D332-4375-9D38-1300E690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514-E46C-49E2-A062-79AA5A51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34F-47C0-4710-B815-BFE9F4BC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655-A87D-46E5-8B87-C0C69863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679-1615-4F1F-A258-3030BB41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A1F-3755-4068-9462-6D4D3280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BB8-4559-4B92-AAEF-40836F35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FC9-A651-4DB3-B778-D6B40C81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9C3-E831-4E59-9AA7-44E4C7CE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282-A2BB-45D3-925D-BD8C79C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EDE-7EAD-4227-8826-3B66D64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162-3A7D-4CA8-BE22-246998B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43105-71FF-4C7B-9914-B06D4C0CC018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79640" y="1795320"/>
            <a:ext cx="179280" cy="3700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79640" y="1795320"/>
            <a:ext cx="179280" cy="3700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0000" y="1074600"/>
            <a:ext cx="179280" cy="3700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360036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360" y="360036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060720"/>
            <a:ext cx="1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60720" y="3060720"/>
            <a:ext cx="1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2525760"/>
            <a:ext cx="1440" cy="89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2525760"/>
            <a:ext cx="1440" cy="89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3605040"/>
            <a:ext cx="900360" cy="3542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6480"/>
            <a:ext cx="1440000" cy="35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51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360" y="2346480"/>
            <a:ext cx="1440000" cy="35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251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2886120"/>
            <a:ext cx="360360" cy="534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