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0C2-318C-4530-8FCE-D25FBAA4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1A5-C6FF-4B54-BAFE-1EDDDF62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368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32D-6168-4543-B167-2F0929BD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052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540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052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540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C5D5-C7F3-4A3A-9002-01F3C5BC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937-E7CA-4848-938E-E58402BE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118-83CB-4A56-B7E9-A65F4DD0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2C7-3ED9-4C10-AAE6-91D7EEB7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FF26-A923-4ED2-AA01-49C9DFF2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480"/>
            <a:ext cx="873936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F7C-1605-4B07-8E0C-B450D064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A86-E058-4016-AF62-212A4883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368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E1CA-237E-4D61-B78F-D76ABA42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825E-6889-47BD-8F0C-821B6D90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3640"/>
            <a:ext cx="22561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3640"/>
            <a:ext cx="30733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3640"/>
            <a:ext cx="225576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95DED-27D3-407A-8249-40FA1A820BE3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00720" y="2384280"/>
            <a:ext cx="560160" cy="3160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00360" y="5040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5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0000" y="3780000"/>
            <a:ext cx="360360" cy="16189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19640" y="3780000"/>
            <a:ext cx="107928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59280" y="3419640"/>
            <a:ext cx="560520" cy="8553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00720" y="2384280"/>
            <a:ext cx="560160" cy="3160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0360" y="5040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5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40000" y="3780000"/>
            <a:ext cx="360360" cy="16189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19640" y="3780000"/>
            <a:ext cx="107928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9280" y="3419640"/>
            <a:ext cx="560520" cy="8553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80000" y="4319640"/>
            <a:ext cx="90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59280" y="3780000"/>
            <a:ext cx="560520" cy="8553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3465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3465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0" y="3780000"/>
            <a:ext cx="179640" cy="16189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0000" y="418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5040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5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98920" y="3059280"/>
            <a:ext cx="126216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364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98920" y="3059280"/>
            <a:ext cx="126216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59280" y="364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00720" y="2384280"/>
            <a:ext cx="560160" cy="3160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00720" y="2384280"/>
            <a:ext cx="560160" cy="3160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00360" y="5040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5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0" y="3780000"/>
            <a:ext cx="360360" cy="16189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19640" y="3780000"/>
            <a:ext cx="107928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3419640"/>
            <a:ext cx="560520" cy="8553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