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8B6-089F-43D4-8C66-044978F4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2D4-56B6-4AE4-B910-BBDE73C6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150-52D8-4C4B-BAB5-C8B77F06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052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540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052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540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4CC-BE0A-4B42-A883-7FEADF86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F6D-40A4-4000-B21F-D9B677E9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DA2-CC76-4F36-B37A-C376EBAA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17A-7C25-4792-90CD-EF89A9F3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BDA-0468-49B4-9F53-3D45BFDC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480"/>
            <a:ext cx="873936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A48-A1B4-4884-9F74-40B121D8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C00-0F2B-41EB-BEE5-549C250C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C61-2AA6-450B-A014-C7582F53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30E-29B2-44C9-9AB7-DA115638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3640"/>
            <a:ext cx="22561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3640"/>
            <a:ext cx="30733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3640"/>
            <a:ext cx="225576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D75DE-B5E3-4F53-A593-BBA3C18619B4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80000" y="4314960"/>
            <a:ext cx="720720" cy="90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2334960" y="5216040"/>
            <a:ext cx="1089000" cy="189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40000" y="5219640"/>
            <a:ext cx="1079640" cy="17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0000" y="41544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00360" y="1258920"/>
            <a:ext cx="1079280" cy="14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