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6C8-E971-4AB9-9E56-D6E42429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724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E80-CB5C-4AA9-9D0F-4A68D46E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A16-B8ED-4D80-981F-BF443DCF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124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20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124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20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A02-E1A8-4B32-A071-01A3888D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1F0-51CF-4467-9B8F-CDFE09A5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846-2659-480A-96BD-816F6A30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7A2-AF98-4EAB-9DB9-1DE3F782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71E-36BA-4311-A71D-07166952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426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2C18-1A09-4E0B-A53E-3B5D0729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47B-00E0-44F7-A9D5-18C84DB1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EBD-DEF7-4336-93EF-316FAFE8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D04F-DE07-4EC2-A3D6-CD3756C9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4000"/>
            <a:ext cx="2259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6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9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000D5-B421-4598-ACA0-E8AF7C881CDF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79640" y="4140360"/>
            <a:ext cx="357120" cy="357120"/>
            <a:chOff x="1979640" y="4140360"/>
            <a:chExt cx="357120" cy="357120"/>
          </a:xfrm>
        </p:grpSpPr>
        <p:sp>
          <p:nvSpPr>
            <p:cNvPr id="189" name=""/>
            <p:cNvSpPr/>
            <p:nvPr/>
          </p:nvSpPr>
          <p:spPr>
            <a:xfrm flipV="1">
              <a:off x="1979640" y="414036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79640" y="414324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0" y="4140360"/>
            <a:ext cx="357120" cy="357120"/>
            <a:chOff x="3240000" y="4140360"/>
            <a:chExt cx="357120" cy="357120"/>
          </a:xfrm>
        </p:grpSpPr>
        <p:sp>
          <p:nvSpPr>
            <p:cNvPr id="205" name=""/>
            <p:cNvSpPr/>
            <p:nvPr/>
          </p:nvSpPr>
          <p:spPr>
            <a:xfrm flipV="1">
              <a:off x="3240000" y="414036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0000" y="414324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600360" y="3600360"/>
            <a:ext cx="357120" cy="357120"/>
            <a:chOff x="3600360" y="3600360"/>
            <a:chExt cx="357120" cy="357120"/>
          </a:xfrm>
        </p:grpSpPr>
        <p:sp>
          <p:nvSpPr>
            <p:cNvPr id="208" name=""/>
            <p:cNvSpPr/>
            <p:nvPr/>
          </p:nvSpPr>
          <p:spPr>
            <a:xfrm flipV="1">
              <a:off x="3600360" y="360036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00360" y="360468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859280" y="3419640"/>
            <a:ext cx="357120" cy="357120"/>
            <a:chOff x="4859280" y="3419640"/>
            <a:chExt cx="357120" cy="357120"/>
          </a:xfrm>
        </p:grpSpPr>
        <p:sp>
          <p:nvSpPr>
            <p:cNvPr id="211" name=""/>
            <p:cNvSpPr/>
            <p:nvPr/>
          </p:nvSpPr>
          <p:spPr>
            <a:xfrm flipV="1">
              <a:off x="4859280" y="341964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9280" y="342252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440000" y="1076040"/>
            <a:ext cx="179280" cy="369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160720" y="1800360"/>
            <a:ext cx="357120" cy="357120"/>
            <a:chOff x="2160720" y="1800360"/>
            <a:chExt cx="357120" cy="357120"/>
          </a:xfrm>
        </p:grpSpPr>
        <p:sp>
          <p:nvSpPr>
            <p:cNvPr id="223" name=""/>
            <p:cNvSpPr/>
            <p:nvPr/>
          </p:nvSpPr>
          <p:spPr>
            <a:xfrm flipV="1">
              <a:off x="2160720" y="180036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60720" y="180324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79640" y="4859280"/>
            <a:ext cx="357120" cy="357120"/>
            <a:chOff x="1979640" y="4859280"/>
            <a:chExt cx="357120" cy="357120"/>
          </a:xfrm>
        </p:grpSpPr>
        <p:sp>
          <p:nvSpPr>
            <p:cNvPr id="86" name=""/>
            <p:cNvSpPr/>
            <p:nvPr/>
          </p:nvSpPr>
          <p:spPr>
            <a:xfrm flipV="1">
              <a:off x="1979640" y="485928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79640" y="486216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0" y="3780000"/>
            <a:ext cx="1796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700360" y="5219640"/>
            <a:ext cx="357120" cy="357120"/>
            <a:chOff x="2700360" y="5219640"/>
            <a:chExt cx="357120" cy="357120"/>
          </a:xfrm>
        </p:grpSpPr>
        <p:sp>
          <p:nvSpPr>
            <p:cNvPr id="121" name=""/>
            <p:cNvSpPr/>
            <p:nvPr/>
          </p:nvSpPr>
          <p:spPr>
            <a:xfrm flipV="1">
              <a:off x="2700360" y="521964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00360" y="522252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959280" y="4680000"/>
            <a:ext cx="357120" cy="357120"/>
            <a:chOff x="3959280" y="4680000"/>
            <a:chExt cx="357120" cy="357120"/>
          </a:xfrm>
        </p:grpSpPr>
        <p:sp>
          <p:nvSpPr>
            <p:cNvPr id="124" name=""/>
            <p:cNvSpPr/>
            <p:nvPr/>
          </p:nvSpPr>
          <p:spPr>
            <a:xfrm flipV="1">
              <a:off x="3959280" y="468000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59280" y="4682880"/>
              <a:ext cx="357120" cy="35100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859280" y="4140360"/>
            <a:ext cx="357120" cy="357120"/>
            <a:chOff x="4859280" y="4140360"/>
            <a:chExt cx="357120" cy="357120"/>
          </a:xfrm>
        </p:grpSpPr>
        <p:sp>
          <p:nvSpPr>
            <p:cNvPr id="127" name=""/>
            <p:cNvSpPr/>
            <p:nvPr/>
          </p:nvSpPr>
          <p:spPr>
            <a:xfrm flipV="1">
              <a:off x="4859280" y="414036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9280" y="414324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