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F22-9459-456B-9CD6-7A9512E6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5FA-FC2D-4C3A-955F-0C7B23EC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E2C-F214-4045-B0E6-067FBC06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775-E475-44B5-8AEE-EE2F7222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005-5977-4DCC-A7BB-95C4FB3C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191-6857-4683-BA38-C4F5F13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456-1564-4AFA-88CE-F4781C2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095-4BD5-43EE-8B00-51C5D5D8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B9D-D7D0-4D68-9740-A4F16C5F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E62-1639-437D-ACEC-5D2C1EF9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B13-8736-4734-8683-2FAB1B19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FA5-91EB-43D2-82D9-2A4582E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8B34-2169-4A57-986D-E875D8AA8791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9280" y="216072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340000"/>
            <a:ext cx="5601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1080" y="2160720"/>
            <a:ext cx="56016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1079640"/>
            <a:ext cx="560160" cy="3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2340000"/>
            <a:ext cx="5601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1080" y="2160720"/>
            <a:ext cx="56016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060720"/>
            <a:ext cx="1260360" cy="161928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40560" y="418464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720" y="1081080"/>
            <a:ext cx="560160" cy="3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