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5.wmf" ContentType="image/x-wmf"/>
  <Override PartName="/ppt/media/image28.wmf" ContentType="image/x-wmf"/>
  <Override PartName="/ppt/media/image30.png" ContentType="image/png"/>
  <Override PartName="/ppt/media/image13.wmf" ContentType="image/x-wmf"/>
  <Override PartName="/ppt/media/image9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8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080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33240" y="4020840"/>
            <a:ext cx="264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402084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4020840"/>
            <a:ext cx="8229600" cy="26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907920"/>
            <a:ext cx="8207280" cy="73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38200" y="2927520"/>
            <a:ext cx="8207280" cy="72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211640" y="6308640"/>
            <a:ext cx="4932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Verilog &amp; FPG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585800" y="3312720"/>
            <a:ext cx="64008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gi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~, &amp;, |, ^, ~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egate, and, or, xor, x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wise operator on vector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’b1101 &amp; 4’b0110 = 4’b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operand widths are not equal, the smaller one is extended with z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’b11 &amp; 4’b1101 = 4’b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gic operators: !, &amp;&amp;, ||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t reduction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s on all bits of a vector, the output is a single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amp;, ~&amp;, |, ~|, ^, ~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, nand, or, nor, xor, xn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4’b1101 = 1’b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4’b1101 = 1’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usage scenari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ty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, not-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,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quality considering „Z”,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!=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t-equal considering „Z”, „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, &gt;, &lt;=, 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+, -, *, /,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of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 is synthes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division, modulo are only synthesizable when the second operator is power of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numbers in twos-complement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atenate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{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4’b0101, 4’b1110} = 8’b010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&lt;, 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ed part has to be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[5: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es like a real wire (combinatorial log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of an 8 bit wire: wire [7:0]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ynthesis it c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late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reg [7:0] d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only o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operand continuously gets a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c = a &amp;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rive a singl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parallel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describe combinator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95640" y="3645000"/>
          <a:ext cx="31701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645000"/>
                    <a:ext cx="3170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able should be written only in on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sitivity list cannot contain the outputs (left-side variables) of th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lway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used within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are executed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1773360"/>
            <a:ext cx="19432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…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2133720"/>
            <a:ext cx="201600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ensitiv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68360" y="2133720"/>
            <a:ext cx="12956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2924280"/>
            <a:ext cx="201600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19280" y="2781360"/>
            <a:ext cx="194472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assig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the execution of operations after it till it is executed -&gt; sequential operation (don’t use it unless really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blocking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&l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blocking assignments are executed in parallel -&gt; hardware-lik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use nonblocking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Flip Fl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Flop: edge sensitive storag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00720" y="1773360"/>
          <a:ext cx="418464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773360"/>
                    <a:ext cx="41846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79280" y="3141720"/>
            <a:ext cx="396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773360"/>
            <a:ext cx="396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643280" y="3141720"/>
          <a:ext cx="39531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141720"/>
                    <a:ext cx="39531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79280" y="5229360"/>
            <a:ext cx="396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, posedge 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859280" y="5229360"/>
          <a:ext cx="4070520" cy="12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4070520" cy="12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 HDL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HDL (hardware description language)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4: Gateway Design Automation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: Cadence -&gt; Open Verilog Inter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: IEEE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: Verilog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3-85: IBM,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7: IEEE standar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4: VHDL-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Flip Fl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Xilinx FP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and set can be synchronous or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in synchronous c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, set, 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573360"/>
            <a:ext cx="3961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, posedge rst, posedge 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1'b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se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if (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211640" y="3860640"/>
          <a:ext cx="4932360" cy="16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860640"/>
                    <a:ext cx="493236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comb. log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is continuously calculated – if any of the inputs changes the output immediately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2637000"/>
            <a:ext cx="266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140360" y="3357720"/>
          <a:ext cx="31701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3357720"/>
                    <a:ext cx="3170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900000" y="3789360"/>
            <a:ext cx="2664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: level sensitive storage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long as the „gate” input is ‘1’, the input is sampled into the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„gate” input is ‘0’, the previously sampled value is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6920" y="3645000"/>
            <a:ext cx="2159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564000" y="3573360"/>
          <a:ext cx="5265720" cy="13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526572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latch err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latch is typically a bad idea; it can be generated by wro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ull if or case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rs typically give a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2852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ase 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0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1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10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97240" y="2793960"/>
          <a:ext cx="58467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793960"/>
                    <a:ext cx="58467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95280" y="465300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ways – correct if/c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code using combinatorial if/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177336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ase 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0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01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’b10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efault: r &lt;= ‘b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4076640"/>
            <a:ext cx="2376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if (sel=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492360" y="2852640"/>
          <a:ext cx="5508720" cy="19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852640"/>
                    <a:ext cx="5508720" cy="19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 – nonblocking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299736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12536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08360" y="3357720"/>
          <a:ext cx="518472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635280" y="1413000"/>
          <a:ext cx="529128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1413000"/>
                    <a:ext cx="5291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79280" y="494172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708360" y="5229360"/>
          <a:ext cx="5184720" cy="97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522936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 – nonblocking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9280" y="191628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708360" y="2276640"/>
          <a:ext cx="52912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276640"/>
                    <a:ext cx="52912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79280" y="3860640"/>
            <a:ext cx="3384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 &lt;= a &amp;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t |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08360" y="4149720"/>
          <a:ext cx="518472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149720"/>
                    <a:ext cx="518472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ing – nonblocking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1700280"/>
            <a:ext cx="2664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2, s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2 &lt;= in0 +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3 &lt;= s2 + in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700280"/>
            <a:ext cx="2665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0, s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0 = in0 +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1 = s0 + in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. 3 inpu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1700280"/>
            <a:ext cx="266400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4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4 &lt;= in0 + in1 +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19640" y="4005360"/>
          <a:ext cx="261936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005360"/>
                    <a:ext cx="2619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227640" y="4005360"/>
          <a:ext cx="2619360" cy="14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4005360"/>
                    <a:ext cx="2619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68360" y="4005360"/>
          <a:ext cx="2619360" cy="170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005360"/>
                    <a:ext cx="26193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266840"/>
            <a:ext cx="844704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hierarchy: connect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– signal assignment based on the port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773360"/>
            <a:ext cx="7848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top_level (input in0, in1, in2, outpu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wire xor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_m xor_inst0(.i0(in0), .i1(in1), .o(xor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_m xor_inst1(.i0(xor0), .i1(in2), .o(r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600084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MUX (1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84464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ssign 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(sel==1’b1) ? in1 :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2852640"/>
            <a:ext cx="7848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el==1’b1)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se              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437000"/>
            <a:ext cx="7848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2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0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’b1: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HDL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development is very time consuming compared t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 of programmers with C/C++ knowledge, much less HDL desi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oxica Handel-C: based on ANSI-C with speci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C: standardized, object oriented C++ bas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 Catapult-C: can generate hardware from standard 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simulation,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 co-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MUX (2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26648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84464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x_4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in0, in1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2, in3, 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output reg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(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r &lt;= i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564000" y="2268360"/>
          <a:ext cx="558000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268360"/>
                    <a:ext cx="558000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1 bit full add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1197000"/>
            <a:ext cx="7848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or3_m xor(.i0(a), .i1(b), .i2(cin), .o(s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a0, a1, a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 and0(.i0(a), .i1(b), .o(a0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1(.i0(a), .i1(cin), .o(a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_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2(.i0(b), .i1(cin), .o(a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3_m or(.i0(a0), .i1(a1), .i2(a2) , .o(cou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3645000"/>
            <a:ext cx="7848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s = a ^ b ^ c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cout = (a &amp; b) | (a &amp; cin) | (b &amp; c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501336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a, b, cin, output cout,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{cout, s} = a + b + c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4 bit adder, structu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1197000"/>
            <a:ext cx="784836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add4 (input [3:0] a, b, output [4:0] 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[3:0] c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0(.a(a[0]), .b(b[0]), .cin(1'b0),    .cout(cout[0]), .s(s[0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1(.a(a[1]), .b(b[1]), .cin(cout[0]), .cout(cout[1]), .s(s[1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2(.a(a[2]), .b(b[2]), .cin(cout[1]), .cout(cout[2]), .s(s[2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d1_full add3(.a(a[3]), .b(b[3]), .cin(cout[2]), .cout(s[4]),    .s(s[3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3573360"/>
            <a:ext cx="7848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add4 (input [3:0] a, b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in, output cou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0] s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{cout, sum}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a + 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+ c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4 bit adder, structu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2938320" cy="5589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924360" y="1125360"/>
            <a:ext cx="465768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4 bit adder, RT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3953160" cy="4762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797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Shift regi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bit deep shift register (e.g. for delaying a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2133720"/>
            <a:ext cx="784836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clk, sh, di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15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r &lt;= {shr[14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], din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ssign dout = shr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Cou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counter with synchronous reset, clock enable, load and directio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00000" y="1916280"/>
            <a:ext cx="7848720" cy="47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m_cntr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(input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k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e, load, di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input  [7:0]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[7:0]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0]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 if (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if (lo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d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 if (d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cntr_reg –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 &lt;= cntr_reg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sign dout = 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cntr_reg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– Sec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un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Hz clock frequency, 1 sec = 50 000 000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0000" y="1557360"/>
            <a:ext cx="741708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(input clk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s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 output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[6:0] 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eg [25:0] clk_div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wire t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lk_div &lt;= clk_div +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ssign tc = (clk_div == 49999999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reg [6:0] sec_cn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 if (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if (sec_cntr==5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ec_cntr &lt;= sec_cntr +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ssign dout = sec_cn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-state li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buses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data bus of external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s drive enable signal is critical (bus_drv), take care when generat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92280"/>
            <a:ext cx="79218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tri_state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out [7:0] data_io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[7:0] data_in, data_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bus_dr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ata_in = data_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ata_io = (bus_drv) ? data_out : 8’b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M – Finite State Mach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SM – to create complex control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register: stat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e function: determines the next state (combinatorial log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function: generates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: based on the state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ly: based on the state registers and the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76360" y="1773360"/>
          <a:ext cx="57834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57834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pose of HDL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hardwar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art of these languages can only be used for simulation, not for hardware generation (synth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able part depends on the actual synthes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graphical, schematic based design method (which very time consu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(Register Transfer Level) leve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hardware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light (si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: red, yellow, green, red-yellow (no blinking yel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timers for the diffe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987640" y="3284640"/>
          <a:ext cx="3168720" cy="30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3284640"/>
                    <a:ext cx="316872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M example – Verilog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1197000"/>
            <a:ext cx="331164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k, rst,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2:0] le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= 2'b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'b0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'b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arameter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= 2'b1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15:0]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0] state_re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[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0] next_st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r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_reg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_reg &lt;= next_stat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24360" y="1197000"/>
            <a:ext cx="4751280" cy="538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3'bxx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SM example – Verilog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268280"/>
            <a:ext cx="40320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osedge cl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5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40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4500;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timer =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500;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_state &lt;=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mer &lt;= timer -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1752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a new value when stat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0: st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4365720"/>
            <a:ext cx="4032360" cy="21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(state_re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Y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&lt;= 3'b1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&lt;= 3'b1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&lt;= 3'b0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RE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&lt;= 3'b00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default: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ed &lt;= 3’b10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ized mod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ize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iating the parameterize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95640" y="1125360"/>
            <a:ext cx="4103640" cy="204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odule ad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a, b, 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ter width = 8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put [width-1:0] a,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put [width:0] 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ssign s =  a + 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89360"/>
            <a:ext cx="6913800" cy="27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re [15:0] op0, op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ire [16:0] 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#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width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add_16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a(op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b(op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s(r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nch creation: two possibilities in Xilinx 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bench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inputs using a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inputs using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 (M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Test Fix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is a Verilog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ule under test is a sub-module of the 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erilog syntax constructs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n-synthesizable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cale 1ns/1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ase is 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olution: 1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Fixture - ini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”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starts at time „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” blocks are executed in parallel with each other and with always blocks and as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lays are cumulativ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3789360"/>
            <a:ext cx="2663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10 a &lt;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25 a &lt;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5   a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780000" y="4221000"/>
          <a:ext cx="453708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221000"/>
                    <a:ext cx="45370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Fixture - alwa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inputs (propagation tim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557360"/>
            <a:ext cx="81360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k &lt;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w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k &lt;= ~c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3860640"/>
            <a:ext cx="8136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itial cnt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lw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2 cntr &lt;= cntr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556000" y="4941720"/>
          <a:ext cx="460836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941720"/>
                    <a:ext cx="460836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odule which uses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different file (more modules can use the same t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number of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ontain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declared in a task are local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variables can be read or written by th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sk can call another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Example - Ta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 asynchronous rea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3357720"/>
            <a:ext cx="69134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ask bus_w(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15:0] addr, input [7:0] dat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addr &lt;= add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5   xdata &lt;=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3   xwe  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10 xwe   &lt;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ile (xack != 1) wa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4   xdata &lt;= 8’b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addr &lt;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124000" y="1557360"/>
          <a:ext cx="331164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331164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L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nd output port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quations between the inputs and th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software programming languages, NOT a sequenti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PARALLEL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 Tas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_w” is located in „tasks.v”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* variables used by the task are global variables defined in the test fix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task in a test f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writ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s betwee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4221000"/>
            <a:ext cx="69134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`include “tasks.v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us_w(1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h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8’h4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10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us_w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6’h1, 8’h65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#10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bus_w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6’h2, 8’h42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759120" y="217188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9120" y="217188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data into an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data in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26920" y="1628640"/>
            <a:ext cx="6913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9:0] input_data[255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$readmemh(“input.txt”, input_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3357720"/>
            <a:ext cx="79930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ger file_ou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res_v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e [16:0] 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_out =$fopen(“output.txt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out_val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$fwrite(file_out, "%d \n", re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PG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: Field Programmable Gate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: Xilinx, Altera, Actel, Quicklogic,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is defined by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can be modified,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0 – 8000000 system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– 600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– 400 MHz operating frequency (design depend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 e.g. RAM or MUX 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linx FPG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n: efficient, low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ex: more complex, higher performance, extende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B: configurable logic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B: I/O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AM: intern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, DSP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sources: DCM, dedicated clock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PowerPC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linx FPGA: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L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ent, routing, connections, other parameters) is stored in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is lost when there is no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must be loaded after pow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EPROM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 development cable (J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linx FPGA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 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rimi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FPGA primi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l building blocks of the FPGA can be accessed as a primitive -&gt; can be used as 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D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st primitives synthesizers can infer them from the appropriate register transfer level HD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linx FPG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design: logic +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2087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Xilinx FPGAs – CL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LB consists of 4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UTs: look up table, used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ROM and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torage elements: configured to FF 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signals (set, reset, ce) are sh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 within a 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multiplexer (MUX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carry logic (MUXCY, XOR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linx FPGA: basic logic el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26684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schematic of a 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input LUT: Look-Up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x1 bit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: inputs of the log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: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mplement any 4 input log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708360" y="1484280"/>
          <a:ext cx="484020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484280"/>
                    <a:ext cx="484020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lf-slice (4 input LU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tan series, and Virtex series (excluding Virtex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487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268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blocks to design complex, hierarch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description,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68360" y="2212920"/>
          <a:ext cx="496764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212920"/>
                    <a:ext cx="496764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alf-slice (6 input LU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irtex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LUT R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ynchrono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ilinx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M16X1, ROM32x1,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133720"/>
            <a:ext cx="784836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om1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[3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ress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utput reg [7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e(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’b0000: data &lt;=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STA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’b0001: data &lt;=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STA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’b1111: data &lt;=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STA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LUT 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: synchronous write, asynchronous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linx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rt: RAM16X1S,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port: RAM16X1D,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2133720"/>
            <a:ext cx="784836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1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clk, we, input [3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r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nput [7:0] d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mem[15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m[addr] &lt;= d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mem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LUT RA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generated with a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 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appens at the marked rising clock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692360" y="1989000"/>
          <a:ext cx="518472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89000"/>
                    <a:ext cx="518472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979640" y="4292640"/>
          <a:ext cx="4680000" cy="21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4292640"/>
                    <a:ext cx="468000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T based, output addressable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e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linx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LC16, SRLC16E, SRLC32, SRLC32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2133720"/>
            <a:ext cx="784836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_16x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clk, sh, din, input [3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15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r &lt;= {shr[14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], din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shr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ift register arr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1268280"/>
            <a:ext cx="78483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_16x8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input clk, sh, input [3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7:0] d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15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teg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r[0] &lt;= d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(i=15; i&gt;0, i=i-1)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r[i] &lt;= shr[i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shr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dual-port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: 16384 + 2048 (parity)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width: 1, 2, 4, 9, 18, 36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, WE, EN, SSR (clock, write enable, enable, synchronous re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, DI, DO (address, data in, data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puts are 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changes 2-3 ns after the clock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linx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rt: RAMB16_S1…RAMB16_S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 port: RAMB16_S1_S1…RAMB16_S36_S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RAM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 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generated by a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 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appens at the marked rising clock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547640" y="1989000"/>
          <a:ext cx="547236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54723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619280" y="4221000"/>
          <a:ext cx="5184720" cy="23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221000"/>
                    <a:ext cx="5184720" cy="23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-Write coll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uring an active writ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change (NO_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data is presented (READ_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ata is presented (WRITE_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ual-port configuration the output of the non-write port is invalid during write cycles (except in READ_FIRST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to the same address from both ports is forb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RAM using primi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1268280"/>
            <a:ext cx="784836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MB16_S9 #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INIT(9'h000),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Value of output RAM registers at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SRVAL(9'h000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Output value upon SSR as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WRITE_MODE("WRITE_FIRS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RAMB16_S9_inst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DO(DO),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8-bit Data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DOP(DOP),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1-bit parit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ADDR(ADDR),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11-bit Addres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CLK(CLK),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DI(DI),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8-bit Data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DIP(DIP),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1-bit parity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EN(EN),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RAM Enabl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SSR(SSR),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Synchronous Set/Reset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WE(WE)    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/ Write Enable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Synta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266840"/>
            <a:ext cx="849636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(like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   *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bit width&gt;&lt;‘base&gt;&lt;valu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’b00100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decimal value: 4, 5 bit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’h4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110   decimal value: 78, 8 bit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’bZ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Z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high impedanc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P BlockRAM – Read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1268280"/>
            <a:ext cx="784836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p_ra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nput clk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e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10:0] addr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 7:0] di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memory[2047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mory[addr] &lt;= d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t_reg &lt;= memory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P BlockRAM – Write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1268280"/>
            <a:ext cx="7848360" cy="47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p_ra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nput clk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e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10:0] addr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 7:0] di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memory[2047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mory[addr] = d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t_reg = memory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P BlockRAM – No Cha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1268280"/>
            <a:ext cx="784836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p_ra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nput clk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e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10:0] addr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[ 7:0] din,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memory[2047: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 [7:0]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ways 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mory[addr] &lt;= d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ut_reg &lt;= memory[addr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dout = dout_re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DP Block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1052640"/>
            <a:ext cx="7848360" cy="563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p_ram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input cl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clk_b, we_b, en_b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 [10:0] addr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addr_b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put [ 7:0] di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, din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utput [7:0] dout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, dout_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 [7:0] memory[2047: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g [7:0] dout_reg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, dout_reg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ways @ (posedge cl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f (e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f (we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ory[addr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] &lt;= di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ut_reg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&lt;= memory[addr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sign dout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dout_reg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lways @ (posedge clk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f (e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f (we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mory[addr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] &lt;= din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out_reg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&lt;= memory[addr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sign dout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dout_reg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_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er: 18x18, sign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linx prim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18X18, MUL18X1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8360" y="1989000"/>
            <a:ext cx="8280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c (input signed [17:0] a, b, output signed [35:0] p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sign p = a*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3284640"/>
            <a:ext cx="82803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u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, e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put signed [17:0] a, b, output reg signed [35:0] p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@ (posedge c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(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&lt;= a*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: module (200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155736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341360"/>
            <a:ext cx="201636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270828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407664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73408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dmodu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537372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2060640"/>
            <a:ext cx="57636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635280" y="1628280"/>
            <a:ext cx="316872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268360" y="5589360"/>
            <a:ext cx="86364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00720" y="3068280"/>
            <a:ext cx="230328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508720" y="3068280"/>
            <a:ext cx="12952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4076640"/>
            <a:ext cx="151128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4869000"/>
            <a:ext cx="338436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2708280"/>
            <a:ext cx="33130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odule tes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7:0] data_i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ata_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utput reg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3716280"/>
            <a:ext cx="100800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: modu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068640"/>
            <a:ext cx="5112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module test(clk, data_in, data_out, val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cl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inp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[7:0] data_in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put [7:0] data_out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output reg va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1557360"/>
            <a:ext cx="2016360" cy="57456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2276640"/>
            <a:ext cx="86508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26828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ul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1268280"/>
            <a:ext cx="201636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without ty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16360" y="1988640"/>
            <a:ext cx="1295280" cy="10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00720" y="1989000"/>
            <a:ext cx="2376360" cy="11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616572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ndmodu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332000" y="5661000"/>
            <a:ext cx="86364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77080" y="5805360"/>
            <a:ext cx="2016000" cy="574920"/>
          </a:xfrm>
          <a:prstGeom prst="flowChartAlternateProcess">
            <a:avLst/>
          </a:prstGeom>
          <a:solidFill>
            <a:srgbClr val="b9e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r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4076640"/>
            <a:ext cx="3529080" cy="165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4:22:32Z</dcterms:created>
  <dc:creator>Szántó Péter</dc:creator>
  <dc:description/>
  <dc:language>en-US</dc:language>
  <cp:lastModifiedBy>szanto</cp:lastModifiedBy>
  <dcterms:modified xsi:type="dcterms:W3CDTF">2007-03-21T10:38:42Z</dcterms:modified>
  <cp:revision>441</cp:revision>
  <dc:subject/>
  <dc:title>HDL nyelvek</dc:title>
</cp:coreProperties>
</file>