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43D-CEC4-46E4-9525-5966C18F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2DF-7592-4CEB-B7D0-A4044C5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8AB-5D3E-4F0E-A1D5-7BC70DC4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4A6-DC72-481A-B23E-324EE8E6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D0F-0B70-4CFC-868F-DFBAF189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C93-596F-4E13-A983-E85210F2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9E7-6A53-4E05-BA5C-E808BD6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CCB-2AF5-4D46-9C36-48AD4B6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5F2-ACD6-400E-9997-501487A2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3F4-6D70-49A6-8FB8-02F35395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393-0627-4725-9B17-BE71904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19F-3F57-4B5A-B94A-2F3A0C91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A3E-521F-4065-9D25-5A87869BE4B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06520" y="0"/>
            <a:ext cx="7737480" cy="663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3681360"/>
            <a:ext cx="7477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503280" y="584280"/>
            <a:ext cx="76550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431640" y="800280"/>
            <a:ext cx="8455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324000" y="225360"/>
            <a:ext cx="84200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2T13:31:22Z</dcterms:created>
  <dc:creator>tade</dc:creator>
  <dc:description/>
  <dc:language>en-US</dc:language>
  <cp:lastModifiedBy>tade</cp:lastModifiedBy>
  <dcterms:modified xsi:type="dcterms:W3CDTF">2018-11-09T14:14:06Z</dcterms:modified>
  <cp:revision>14</cp:revision>
  <dc:subject/>
  <dc:title>Slide 1</dc:title>
</cp:coreProperties>
</file>