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649-7FE3-468D-AE4B-49430C81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364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CA9-255F-4248-A991-286FF2C8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18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917-1DCD-4D06-BB9C-8BA2244F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52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52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386-9B09-4D04-93C4-A3AC57F2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972-074A-4142-91F9-7D7944EE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5DA-3FBB-40F4-81FF-536AAF22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B83-4E06-49A6-82DF-D2C05C82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78E-778C-49BB-9C16-2EA684D8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361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A5D-BEA2-48BA-91CE-37CBABC7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FFD-3226-416E-A9E5-148DF866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18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84D-E6FA-4084-A698-8AD6B932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10F-8F3B-4320-B520-2083DA11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528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00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252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1B165-5063-40B8-B1D5-B361E68D407B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793880" y="1074240"/>
            <a:ext cx="912960" cy="16304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440000" y="1069560"/>
            <a:ext cx="179280" cy="3826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793880" y="1074240"/>
            <a:ext cx="912960" cy="16304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40000" y="1069560"/>
            <a:ext cx="179280" cy="3826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4140360"/>
            <a:ext cx="144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793880" y="1074240"/>
            <a:ext cx="912960" cy="16304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0720" y="2879640"/>
            <a:ext cx="107964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0000" y="1069560"/>
            <a:ext cx="179280" cy="3826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0720" y="4140360"/>
            <a:ext cx="144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0" y="3780000"/>
            <a:ext cx="1796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793880" y="1074240"/>
            <a:ext cx="912960" cy="16304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60720" y="2879640"/>
            <a:ext cx="107964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440000" y="1069560"/>
            <a:ext cx="179280" cy="3826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60720" y="4140360"/>
            <a:ext cx="144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0" y="3780000"/>
            <a:ext cx="1796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40560" y="41544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  <a:ea typeface="Microsoft YaHe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793880" y="1074240"/>
            <a:ext cx="912960" cy="16304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60720" y="2879640"/>
            <a:ext cx="1079640" cy="18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