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FF9-50C4-41C8-866D-DC46BBA9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A09-100D-4F0E-8F9A-910C8220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D04-B942-4F05-80E0-04688367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F1F-4F85-4793-B55F-96691E18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592-2CD2-496C-9B18-7E733800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D58-07B9-4C6F-873F-8D8F9198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400-1A7A-4216-AC13-81471E9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330-2264-46FB-8733-C78E3D1E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81B-07D7-42A4-BFA8-5C6E3D56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E13-63FF-4BE8-8F4D-0C8F02C3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49D-B74C-4EA1-B3B3-0D6EC992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072-FAED-4163-8BCB-069490EB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581A5-339B-4842-8E72-D58025FD2C00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675320" y="4135320"/>
            <a:ext cx="909360" cy="54936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394240" y="5040360"/>
            <a:ext cx="370080" cy="53964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940360" y="4495320"/>
            <a:ext cx="720720" cy="18900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314960" y="2874600"/>
            <a:ext cx="1449360" cy="180972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54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675320" y="4135320"/>
            <a:ext cx="909360" cy="54936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394240" y="5040360"/>
            <a:ext cx="370080" cy="53964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940360" y="4495320"/>
            <a:ext cx="720720" cy="18900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14960" y="2874600"/>
            <a:ext cx="1449360" cy="180972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4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72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9640" y="306072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675320" y="4135320"/>
            <a:ext cx="909360" cy="54936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94240" y="5040360"/>
            <a:ext cx="370080" cy="53964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0360" y="4495320"/>
            <a:ext cx="720720" cy="18900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314960" y="2874600"/>
            <a:ext cx="1449360" cy="18097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54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72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9640" y="306072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40560" y="4140360"/>
            <a:ext cx="560160" cy="344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