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3F2-F885-471F-9B4F-BADBADA9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D9E-020A-4665-8E50-90C9C87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B29-3469-4002-8C5D-50832790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7EC-6C53-4DE7-9935-E067E7BE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EA9-1BC4-47B9-96EC-143678A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E76-ED2B-43F5-99FB-3306D0EE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C54-1C2C-4898-8859-A122433C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A15-B858-4D2B-8660-FE82113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910-F939-412B-B706-A5F0E55C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0E1-749E-48B4-94DF-A5122D8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79C-F0BD-426F-8CEF-E3E4074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8B4-1818-4555-BA4E-1D40B6E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DF92B-25D8-4DFC-BAB4-9FFA8A3E83CE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79640" y="4140360"/>
            <a:ext cx="357120" cy="357120"/>
            <a:chOff x="1979640" y="4140360"/>
            <a:chExt cx="357120" cy="357120"/>
          </a:xfrm>
        </p:grpSpPr>
        <p:sp>
          <p:nvSpPr>
            <p:cNvPr id="189" name=""/>
            <p:cNvSpPr/>
            <p:nvPr/>
          </p:nvSpPr>
          <p:spPr>
            <a:xfrm flipV="1">
              <a:off x="197964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7964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0" y="4140360"/>
            <a:ext cx="357120" cy="357120"/>
            <a:chOff x="3240000" y="4140360"/>
            <a:chExt cx="357120" cy="357120"/>
          </a:xfrm>
        </p:grpSpPr>
        <p:sp>
          <p:nvSpPr>
            <p:cNvPr id="205" name=""/>
            <p:cNvSpPr/>
            <p:nvPr/>
          </p:nvSpPr>
          <p:spPr>
            <a:xfrm flipV="1">
              <a:off x="324000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00360" y="3600360"/>
            <a:ext cx="357120" cy="357120"/>
            <a:chOff x="3600360" y="3600360"/>
            <a:chExt cx="357120" cy="357120"/>
          </a:xfrm>
        </p:grpSpPr>
        <p:sp>
          <p:nvSpPr>
            <p:cNvPr id="208" name=""/>
            <p:cNvSpPr/>
            <p:nvPr/>
          </p:nvSpPr>
          <p:spPr>
            <a:xfrm flipV="1">
              <a:off x="3600360" y="36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0360" y="360468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59280" y="3419640"/>
            <a:ext cx="357120" cy="357120"/>
            <a:chOff x="4859280" y="3419640"/>
            <a:chExt cx="357120" cy="357120"/>
          </a:xfrm>
        </p:grpSpPr>
        <p:sp>
          <p:nvSpPr>
            <p:cNvPr id="211" name=""/>
            <p:cNvSpPr/>
            <p:nvPr/>
          </p:nvSpPr>
          <p:spPr>
            <a:xfrm flipV="1">
              <a:off x="4859280" y="34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9280" y="34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0000" y="1076040"/>
            <a:ext cx="179280" cy="369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60720" y="1800360"/>
            <a:ext cx="357120" cy="357120"/>
            <a:chOff x="2160720" y="1800360"/>
            <a:chExt cx="357120" cy="357120"/>
          </a:xfrm>
        </p:grpSpPr>
        <p:sp>
          <p:nvSpPr>
            <p:cNvPr id="223" name=""/>
            <p:cNvSpPr/>
            <p:nvPr/>
          </p:nvSpPr>
          <p:spPr>
            <a:xfrm flipV="1">
              <a:off x="2160720" y="18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60720" y="180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79640" y="4859280"/>
            <a:ext cx="357120" cy="357120"/>
            <a:chOff x="1979640" y="4859280"/>
            <a:chExt cx="357120" cy="357120"/>
          </a:xfrm>
        </p:grpSpPr>
        <p:sp>
          <p:nvSpPr>
            <p:cNvPr id="86" name=""/>
            <p:cNvSpPr/>
            <p:nvPr/>
          </p:nvSpPr>
          <p:spPr>
            <a:xfrm flipV="1">
              <a:off x="1979640" y="485928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9640" y="486216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700360" y="5219640"/>
            <a:ext cx="357120" cy="357120"/>
            <a:chOff x="2700360" y="5219640"/>
            <a:chExt cx="357120" cy="357120"/>
          </a:xfrm>
        </p:grpSpPr>
        <p:sp>
          <p:nvSpPr>
            <p:cNvPr id="121" name=""/>
            <p:cNvSpPr/>
            <p:nvPr/>
          </p:nvSpPr>
          <p:spPr>
            <a:xfrm flipV="1">
              <a:off x="2700360" y="52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360" y="52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59280" y="4680000"/>
            <a:ext cx="357120" cy="357120"/>
            <a:chOff x="3959280" y="4680000"/>
            <a:chExt cx="357120" cy="357120"/>
          </a:xfrm>
        </p:grpSpPr>
        <p:sp>
          <p:nvSpPr>
            <p:cNvPr id="124" name=""/>
            <p:cNvSpPr/>
            <p:nvPr/>
          </p:nvSpPr>
          <p:spPr>
            <a:xfrm flipV="1">
              <a:off x="3959280" y="468000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9280" y="4682880"/>
              <a:ext cx="357120" cy="35100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59280" y="4140360"/>
            <a:ext cx="357120" cy="357120"/>
            <a:chOff x="4859280" y="4140360"/>
            <a:chExt cx="357120" cy="357120"/>
          </a:xfrm>
        </p:grpSpPr>
        <p:sp>
          <p:nvSpPr>
            <p:cNvPr id="127" name=""/>
            <p:cNvSpPr/>
            <p:nvPr/>
          </p:nvSpPr>
          <p:spPr>
            <a:xfrm flipV="1">
              <a:off x="485928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