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A6B9-7926-4F41-A7A9-A7AFEB3A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375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5080"/>
            <a:ext cx="87375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59F-6F7B-4238-9FA8-663B0323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260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2600" y="374508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F012-40F1-43D5-8D37-FEA6795A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800" y="151596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4320" y="151596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508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800" y="374508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4320" y="374508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D85C-951B-47CA-8978-098717F1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960"/>
            <a:ext cx="87375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360B-DFF1-4798-A156-6733AE94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375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1B8-8594-4DA4-93B3-35576D3E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6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2600" y="1515960"/>
            <a:ext cx="426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2A4-D1CF-47EC-A909-C491618D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670-8F07-4F62-8FB4-AE1E7AFC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37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D5E0-4437-47BB-93EF-D47727E6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2600" y="1515960"/>
            <a:ext cx="426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A18-715C-4E35-BF99-95D12065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6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260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2600" y="374508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B23E-9008-43A7-8C62-232D306A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260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87375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2AB3-9155-44AD-B389-2ACB082C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960"/>
            <a:ext cx="87375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5432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4000"/>
            <a:ext cx="307188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5396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58EC8-A2C1-4F35-AD34-51D5B4D8EB14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079640" y="1793880"/>
            <a:ext cx="179280" cy="372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079640" y="1793880"/>
            <a:ext cx="179280" cy="372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40000" y="1073160"/>
            <a:ext cx="179280" cy="372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60360" y="360036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60360" y="360036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60720" y="4140360"/>
            <a:ext cx="144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60720" y="3060720"/>
            <a:ext cx="17928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60720" y="3060720"/>
            <a:ext cx="17928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3060720"/>
            <a:ext cx="1260360" cy="16192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00720" y="3060720"/>
            <a:ext cx="1260360" cy="161928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40560" y="41544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  <a:ea typeface="Microsoft YaHei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0084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079640" y="1611360"/>
            <a:ext cx="179280" cy="558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2525760"/>
            <a:ext cx="1440" cy="893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79640" y="2525760"/>
            <a:ext cx="1440" cy="893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60360" y="3605040"/>
            <a:ext cx="900360" cy="3542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60360" y="2346480"/>
            <a:ext cx="1440000" cy="353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251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60360" y="2346480"/>
            <a:ext cx="1440000" cy="353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251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9640" y="2886120"/>
            <a:ext cx="360360" cy="534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