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720263" cy="6480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708B-4067-4CAF-ACC6-E2A773B76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612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36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280" y="3743640"/>
            <a:ext cx="8736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4CDE-33DE-4A68-AB83-0F7BD5D29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612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3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1880" y="1515600"/>
            <a:ext cx="4263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280" y="3743640"/>
            <a:ext cx="4263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1880" y="3743640"/>
            <a:ext cx="4263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E784-175A-4E3E-8CE0-D33643A24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612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281268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9080" y="1515600"/>
            <a:ext cx="281268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2520" y="1515600"/>
            <a:ext cx="281268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280" y="3743640"/>
            <a:ext cx="281268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9080" y="3743640"/>
            <a:ext cx="281268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2520" y="3743640"/>
            <a:ext cx="281268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95D2-9DCA-4A62-81F5-2FA125BC2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612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5280" y="1515600"/>
            <a:ext cx="873612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515A-E54F-450C-A4BC-C35F5C9F1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612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3612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627A-2252-47A9-9B5B-30ACB5398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612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312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1880" y="1515600"/>
            <a:ext cx="426312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D188-7019-4E25-AD23-F7B174098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612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CE62-31B0-4271-B6BC-7AD9AC78D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5280" y="258840"/>
            <a:ext cx="873612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D49E-3DC7-44E7-A46E-ECADDB654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612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3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1880" y="1515600"/>
            <a:ext cx="426312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280" y="3743640"/>
            <a:ext cx="4263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3597-C2E8-4974-B6D7-3645B6D7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612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312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1880" y="1515600"/>
            <a:ext cx="4263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1880" y="3743640"/>
            <a:ext cx="4263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362D-EA4B-4E0B-B52E-8D3F4521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612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3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1880" y="1515600"/>
            <a:ext cx="4263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5280" y="3743640"/>
            <a:ext cx="8736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F8A5-B59D-429D-B1FA-E0654AB3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612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280" y="1515600"/>
            <a:ext cx="873612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5640" y="5904000"/>
            <a:ext cx="225288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24240" y="5904000"/>
            <a:ext cx="307008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8880" y="5904000"/>
            <a:ext cx="225252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1AAB6B-C7CC-4C8A-9F1B-E3F866257458}" type="slidenum">
              <a:rPr b="0" lang="hu-H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80000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1079640" y="1609560"/>
            <a:ext cx="179280" cy="5623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1440000" y="1073160"/>
            <a:ext cx="179280" cy="38088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258920" y="3598920"/>
            <a:ext cx="9018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879640" y="3059280"/>
            <a:ext cx="360360" cy="5396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6072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238560" y="3780000"/>
            <a:ext cx="18108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419640" y="3600360"/>
            <a:ext cx="1079280" cy="5400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498920" y="395928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419640" y="52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160720" y="4140360"/>
            <a:ext cx="144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979640" y="4498920"/>
            <a:ext cx="360360" cy="360360"/>
          </a:xfrm>
          <a:prstGeom prst="ellipse">
            <a:avLst/>
          </a:prstGeom>
          <a:noFill/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500720" y="3059280"/>
            <a:ext cx="126036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158920" y="4859280"/>
            <a:ext cx="18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979640" y="504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00200" y="1079640"/>
            <a:ext cx="56016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859120" y="216072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239840" y="289548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879640" y="73656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1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160720" y="3421080"/>
            <a:ext cx="56016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2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840200" y="251928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2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759120" y="343548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2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319640" y="4335480"/>
            <a:ext cx="56016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3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780000" y="5056200"/>
            <a:ext cx="56016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759280" y="431964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4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340000" y="415620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2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260360" y="540072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3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80000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1079640" y="1609560"/>
            <a:ext cx="179280" cy="5623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1440000" y="1073160"/>
            <a:ext cx="179280" cy="38088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258920" y="3598920"/>
            <a:ext cx="9018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879640" y="3059280"/>
            <a:ext cx="360360" cy="5396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06072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38560" y="3780000"/>
            <a:ext cx="18108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419640" y="3600360"/>
            <a:ext cx="1079280" cy="5400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498920" y="3959280"/>
            <a:ext cx="360360" cy="360360"/>
          </a:xfrm>
          <a:prstGeom prst="ellipse">
            <a:avLst/>
          </a:prstGeom>
          <a:noFill/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419640" y="52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160720" y="4140360"/>
            <a:ext cx="144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979640" y="449892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500720" y="3059280"/>
            <a:ext cx="126036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158920" y="4859280"/>
            <a:ext cx="18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979640" y="504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859280" y="4319640"/>
            <a:ext cx="72072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00200" y="1079640"/>
            <a:ext cx="56016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859120" y="216072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239840" y="289548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879640" y="73656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1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160720" y="3421080"/>
            <a:ext cx="56016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2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840200" y="251928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2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759120" y="343548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2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319640" y="4335480"/>
            <a:ext cx="56016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3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780000" y="5056200"/>
            <a:ext cx="56016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761080" y="431964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4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340000" y="415620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2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260360" y="540072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3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80000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1079640" y="1609560"/>
            <a:ext cx="179280" cy="5623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1440000" y="1073160"/>
            <a:ext cx="179280" cy="38088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258920" y="3598920"/>
            <a:ext cx="9018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879640" y="3059280"/>
            <a:ext cx="360360" cy="5396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6072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238560" y="3780000"/>
            <a:ext cx="18108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419640" y="3600360"/>
            <a:ext cx="1079280" cy="5400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498920" y="395928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419640" y="5219640"/>
            <a:ext cx="360360" cy="360360"/>
          </a:xfrm>
          <a:prstGeom prst="ellipse">
            <a:avLst/>
          </a:prstGeom>
          <a:noFill/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160720" y="4140360"/>
            <a:ext cx="144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979640" y="449892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158920" y="4859280"/>
            <a:ext cx="18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979640" y="504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859280" y="4319640"/>
            <a:ext cx="72072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3780000" y="4311720"/>
            <a:ext cx="720720" cy="9158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H="1" flipV="1">
            <a:off x="2331720" y="5213520"/>
            <a:ext cx="1095480" cy="1951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00200" y="1079640"/>
            <a:ext cx="56016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859120" y="216072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239840" y="289548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879640" y="73656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1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160720" y="3421080"/>
            <a:ext cx="56016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2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840200" y="251928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2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759120" y="343548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2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319640" y="4335480"/>
            <a:ext cx="56016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3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780000" y="5056200"/>
            <a:ext cx="56016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0000" y="415620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2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260360" y="540072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3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761080" y="432108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4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80000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1079640" y="1609560"/>
            <a:ext cx="179280" cy="5623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1440000" y="1073160"/>
            <a:ext cx="179280" cy="38088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258920" y="3598920"/>
            <a:ext cx="9018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879640" y="3059280"/>
            <a:ext cx="360360" cy="5396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06072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238560" y="3780000"/>
            <a:ext cx="18108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419640" y="3600360"/>
            <a:ext cx="1079280" cy="5400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498920" y="395928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419640" y="52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160720" y="4140360"/>
            <a:ext cx="144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979640" y="449892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158920" y="4859280"/>
            <a:ext cx="18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979640" y="5040360"/>
            <a:ext cx="360360" cy="360360"/>
          </a:xfrm>
          <a:prstGeom prst="ellipse">
            <a:avLst/>
          </a:prstGeom>
          <a:noFill/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859280" y="4319640"/>
            <a:ext cx="72072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00200" y="1079640"/>
            <a:ext cx="56016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859120" y="216072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239840" y="289548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879640" y="73656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1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160720" y="3421080"/>
            <a:ext cx="56016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2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840200" y="251928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2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759120" y="343548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2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319640" y="4335480"/>
            <a:ext cx="56016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3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780000" y="5056200"/>
            <a:ext cx="56016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340000" y="415620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2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260360" y="540072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3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761080" y="432108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4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H="1" flipV="1">
            <a:off x="2331720" y="5213520"/>
            <a:ext cx="1095480" cy="1951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80000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1079640" y="1609560"/>
            <a:ext cx="179280" cy="5623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1440000" y="1073160"/>
            <a:ext cx="179280" cy="38088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258920" y="3598920"/>
            <a:ext cx="9018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879640" y="3059280"/>
            <a:ext cx="360360" cy="5396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06072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238560" y="3780000"/>
            <a:ext cx="18108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419640" y="3600360"/>
            <a:ext cx="1079280" cy="5400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498920" y="395928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419640" y="52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160720" y="4140360"/>
            <a:ext cx="144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979640" y="449892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158920" y="4859280"/>
            <a:ext cx="18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979640" y="504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859280" y="4319640"/>
            <a:ext cx="72072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00200" y="1079640"/>
            <a:ext cx="56016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859120" y="216072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239840" y="289548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879640" y="73656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1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160720" y="3421080"/>
            <a:ext cx="56016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2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840200" y="251928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2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759120" y="343548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2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319640" y="4335480"/>
            <a:ext cx="56016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3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780000" y="5056200"/>
            <a:ext cx="56016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340000" y="415620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2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260360" y="540072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3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761080" y="432108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4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80000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1079640" y="1609560"/>
            <a:ext cx="179280" cy="5623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1440000" y="1073160"/>
            <a:ext cx="179280" cy="38088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258920" y="3598920"/>
            <a:ext cx="9018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879640" y="3059280"/>
            <a:ext cx="360360" cy="539640"/>
          </a:xfrm>
          <a:prstGeom prst="line">
            <a:avLst/>
          </a:prstGeom>
          <a:ln w="7200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06072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238560" y="3780000"/>
            <a:ext cx="18108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419640" y="3600360"/>
            <a:ext cx="1079280" cy="540000"/>
          </a:xfrm>
          <a:prstGeom prst="line">
            <a:avLst/>
          </a:prstGeom>
          <a:ln w="7200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498920" y="395928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419640" y="52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160720" y="4140360"/>
            <a:ext cx="144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979640" y="449892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158920" y="4859280"/>
            <a:ext cx="18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979640" y="504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859280" y="4319640"/>
            <a:ext cx="720720" cy="360360"/>
          </a:xfrm>
          <a:prstGeom prst="line">
            <a:avLst/>
          </a:prstGeom>
          <a:ln w="7200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00200" y="1079640"/>
            <a:ext cx="56016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859120" y="216072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39840" y="289548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879640" y="73656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1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160720" y="3421080"/>
            <a:ext cx="56016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2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840200" y="251928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2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759120" y="343548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2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319640" y="4335480"/>
            <a:ext cx="56016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3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780000" y="5056200"/>
            <a:ext cx="56016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40000" y="415620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2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260360" y="540072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3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761080" y="432108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4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079640" y="1609560"/>
            <a:ext cx="179280" cy="5623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00200" y="1079640"/>
            <a:ext cx="56016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59120" y="216072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39840" y="289548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80000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1079640" y="1609560"/>
            <a:ext cx="179280" cy="5623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440000" y="1073160"/>
            <a:ext cx="179280" cy="38088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00200" y="1079640"/>
            <a:ext cx="56016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859120" y="216072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39840" y="289548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879640" y="73512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1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80000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079640" y="1609560"/>
            <a:ext cx="179280" cy="5623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440000" y="1073160"/>
            <a:ext cx="179280" cy="38088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58920" y="3598920"/>
            <a:ext cx="9018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0200" y="1079640"/>
            <a:ext cx="56016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59120" y="216072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39840" y="289548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79640" y="73656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1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60720" y="3419640"/>
            <a:ext cx="560160" cy="34416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2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80000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1079640" y="1609560"/>
            <a:ext cx="179280" cy="5623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440000" y="1073160"/>
            <a:ext cx="179280" cy="38088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58920" y="3598920"/>
            <a:ext cx="9018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79640" y="3059280"/>
            <a:ext cx="360360" cy="5396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6072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00200" y="1079640"/>
            <a:ext cx="56016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59120" y="216072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39840" y="289548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79640" y="73656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1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60720" y="3421080"/>
            <a:ext cx="56016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2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838760" y="2519280"/>
            <a:ext cx="56016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2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59120" y="343548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2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80000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079640" y="1609560"/>
            <a:ext cx="179280" cy="5623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440000" y="1073160"/>
            <a:ext cx="179280" cy="38088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noFill/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58920" y="3598920"/>
            <a:ext cx="9018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879640" y="3059280"/>
            <a:ext cx="360360" cy="5396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6072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800360" y="1258920"/>
            <a:ext cx="1079280" cy="14400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0200" y="1079640"/>
            <a:ext cx="56016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859120" y="216072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239840" y="289548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79640" y="73656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1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60720" y="3421080"/>
            <a:ext cx="56016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2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840200" y="251928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2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759120" y="343548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2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80000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1079640" y="1609560"/>
            <a:ext cx="179280" cy="5623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440000" y="1073160"/>
            <a:ext cx="179280" cy="38088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258920" y="3598920"/>
            <a:ext cx="9018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879640" y="3059280"/>
            <a:ext cx="360360" cy="5396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60720" y="3419640"/>
            <a:ext cx="360360" cy="360360"/>
          </a:xfrm>
          <a:prstGeom prst="ellipse">
            <a:avLst/>
          </a:prstGeom>
          <a:noFill/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38560" y="3780000"/>
            <a:ext cx="18108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419640" y="3600360"/>
            <a:ext cx="1079280" cy="5400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498920" y="395928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19640" y="52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00200" y="1079640"/>
            <a:ext cx="56016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859120" y="216072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39840" y="289548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879640" y="73656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1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60720" y="3421080"/>
            <a:ext cx="56016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2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840200" y="251928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2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759120" y="343548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2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319640" y="4335480"/>
            <a:ext cx="56016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3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780000" y="5056200"/>
            <a:ext cx="56016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80000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1079640" y="1609560"/>
            <a:ext cx="179280" cy="5623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1440000" y="1073160"/>
            <a:ext cx="179280" cy="38088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58920" y="3598920"/>
            <a:ext cx="9018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noFill/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879640" y="3059280"/>
            <a:ext cx="360360" cy="5396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06072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38560" y="3780000"/>
            <a:ext cx="18108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19640" y="3600360"/>
            <a:ext cx="1079280" cy="5400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498920" y="395928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19640" y="52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60720" y="4140360"/>
            <a:ext cx="144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979640" y="449892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00200" y="1079640"/>
            <a:ext cx="56016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859120" y="216072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239840" y="289548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879640" y="73656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1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60720" y="3421080"/>
            <a:ext cx="56016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2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840200" y="251928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2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759120" y="343548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2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319640" y="4335480"/>
            <a:ext cx="56016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3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780000" y="5056200"/>
            <a:ext cx="56016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340000" y="415620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2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80000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079640" y="1609560"/>
            <a:ext cx="179280" cy="5623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1440000" y="1073160"/>
            <a:ext cx="179280" cy="38088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258920" y="3598920"/>
            <a:ext cx="9018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879640" y="3059280"/>
            <a:ext cx="360360" cy="5396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noFill/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6072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38560" y="3780000"/>
            <a:ext cx="18108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19640" y="3600360"/>
            <a:ext cx="1079280" cy="5400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498920" y="395928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419640" y="52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160720" y="4140360"/>
            <a:ext cx="144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979640" y="449892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500720" y="3059280"/>
            <a:ext cx="126036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00200" y="1079640"/>
            <a:ext cx="56016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859120" y="216072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239840" y="289548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879640" y="73656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1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160720" y="3421080"/>
            <a:ext cx="56016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2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840200" y="251928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2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759120" y="343548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2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319640" y="4335480"/>
            <a:ext cx="56016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3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80000" y="5056200"/>
            <a:ext cx="56016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761080" y="431964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4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340000" y="415620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2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0T08:04:58Z</dcterms:created>
  <dc:creator>tade </dc:creator>
  <dc:description/>
  <dc:language>en-US</dc:language>
  <cp:lastModifiedBy/>
  <cp:revision>1</cp:revision>
  <dc:subject/>
  <dc:title/>
</cp:coreProperties>
</file>