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35D-CAE7-46A1-B84F-9C8B39E1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605-E9C3-43B9-8A01-AB52D4A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10B-66AD-4A21-ACCC-88D5CEC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709-B109-4B70-9BB1-39479411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1A3-7EF4-4623-AB01-D28CC32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B68-42F7-4908-888E-1CA25BF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702-4B5F-41A5-868A-A29DC5B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CDF-0BCB-43CA-B47E-8A01560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890-96ED-4573-9794-46D189D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1EE-3E31-4F10-A48B-F7362F2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06E-46E5-47E3-96C8-7C39955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210-7FB4-4F1B-A0A0-CF84EEE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740D-3A6A-48A9-B66F-1763177BD3CF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592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610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780000" y="4311720"/>
            <a:ext cx="720720" cy="91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331720" y="5213520"/>
            <a:ext cx="1095480" cy="195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2331720" y="5213520"/>
            <a:ext cx="1095480" cy="195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60360" y="540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61080" y="43210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9640" y="7351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720" y="3419640"/>
            <a:ext cx="560160" cy="344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8760" y="25192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0360" y="1258920"/>
            <a:ext cx="1079280" cy="14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0000" y="1073160"/>
            <a:ext cx="179280" cy="380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0200" y="107964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9120" y="216072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9840" y="289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79640" y="73656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60720" y="34210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40200" y="25192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59120" y="343548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9640" y="433548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50562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1080" y="431964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41562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