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720263" cy="64801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50AA-7A8D-4844-8C80-161BA38CF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612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873612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5280" y="3743640"/>
            <a:ext cx="873612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372F-E290-4E10-B083-548233FB6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612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312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1880" y="1515600"/>
            <a:ext cx="426312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5280" y="3743640"/>
            <a:ext cx="426312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1880" y="3743640"/>
            <a:ext cx="426312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28E8-AF95-4273-9928-8D2327161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612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281268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9080" y="1515600"/>
            <a:ext cx="281268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2520" y="1515600"/>
            <a:ext cx="281268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5280" y="3743640"/>
            <a:ext cx="281268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9080" y="3743640"/>
            <a:ext cx="281268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2520" y="3743640"/>
            <a:ext cx="281268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AF8B-2AF9-4F79-AD7A-657AC88A1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612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5280" y="1515600"/>
            <a:ext cx="8736120" cy="42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6A9D-B633-4FCB-A023-32F7FCB6D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612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8736120" cy="42656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CF74-B153-404A-BAA2-77269C348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612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3120" cy="42656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1880" y="1515600"/>
            <a:ext cx="4263120" cy="42656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A81E-65D5-4F6E-A6F0-E4972A0F3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612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715B-00FA-4C49-A547-6B724F363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5280" y="258840"/>
            <a:ext cx="8736120" cy="49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186D-C3A1-4668-9436-126F0248D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612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312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1880" y="1515600"/>
            <a:ext cx="4263120" cy="42656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5280" y="3743640"/>
            <a:ext cx="426312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9033-DF58-4240-8103-D9F9325B7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612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3120" cy="42656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1880" y="1515600"/>
            <a:ext cx="426312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1880" y="3743640"/>
            <a:ext cx="426312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F34C-2334-4A3E-9698-8D0753677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612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312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1880" y="1515600"/>
            <a:ext cx="426312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5280" y="3743640"/>
            <a:ext cx="873612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410E-03EF-4087-9775-F00DB7605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612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5280" y="1515600"/>
            <a:ext cx="8736120" cy="42656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85640" y="5904000"/>
            <a:ext cx="225288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24240" y="5904000"/>
            <a:ext cx="307008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68880" y="5904000"/>
            <a:ext cx="225252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A5E23E-9FD8-4535-B536-045FC3775DF8}" type="slidenum">
              <a:rPr b="0" lang="hu-H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0360" y="1800360"/>
            <a:ext cx="560520" cy="31428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b80047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079640" y="1609560"/>
            <a:ext cx="179280" cy="5623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4a4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78040" y="1079640"/>
            <a:ext cx="561960" cy="31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19280" y="2160720"/>
            <a:ext cx="560520" cy="31428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b80047"/>
                </a:solidFill>
                <a:latin typeface="Arial"/>
              </a:rPr>
              <a:t>2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39840" y="3060720"/>
            <a:ext cx="560160" cy="3589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60360" y="1800360"/>
            <a:ext cx="560520" cy="31428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1079640" y="1609560"/>
            <a:ext cx="179280" cy="5623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4a4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879640" y="3059280"/>
            <a:ext cx="36036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004a4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5928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140360" y="2340000"/>
            <a:ext cx="560160" cy="31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b80047"/>
                </a:solidFill>
                <a:latin typeface="Arial"/>
              </a:rPr>
              <a:t>1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19640" y="3465360"/>
            <a:ext cx="560160" cy="31464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1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0360" y="1800360"/>
            <a:ext cx="560520" cy="31428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39840" y="3060720"/>
            <a:ext cx="560160" cy="3589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78040" y="1079640"/>
            <a:ext cx="561960" cy="31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21080" y="2160720"/>
            <a:ext cx="560160" cy="31428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2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1798200" y="1079640"/>
            <a:ext cx="903240" cy="16207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60720" y="1079640"/>
            <a:ext cx="560160" cy="36036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41440" y="90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079640" y="1609560"/>
            <a:ext cx="179280" cy="5623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4a4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879640" y="3059280"/>
            <a:ext cx="36036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004a4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928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40360" y="2340000"/>
            <a:ext cx="560160" cy="31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b80047"/>
                </a:solidFill>
                <a:latin typeface="Arial"/>
              </a:rPr>
              <a:t>1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419640" y="3465360"/>
            <a:ext cx="560160" cy="31464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1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60360" y="1800360"/>
            <a:ext cx="560520" cy="31428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9840" y="3060720"/>
            <a:ext cx="560160" cy="3589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78040" y="1079640"/>
            <a:ext cx="561960" cy="31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21080" y="2160720"/>
            <a:ext cx="560160" cy="31428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2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498920" y="3060720"/>
            <a:ext cx="1260360" cy="1619280"/>
          </a:xfrm>
          <a:prstGeom prst="line">
            <a:avLst/>
          </a:prstGeom>
          <a:ln w="72000">
            <a:solidFill>
              <a:srgbClr val="004a4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740560" y="4184640"/>
            <a:ext cx="560160" cy="31608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b80047"/>
                </a:solidFill>
                <a:latin typeface="Arial"/>
              </a:rPr>
              <a:t>   </a:t>
            </a:r>
            <a:r>
              <a:rPr b="0" lang="hu-HU" sz="1800" spc="-1" strike="noStrike">
                <a:solidFill>
                  <a:srgbClr val="b80047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1798200" y="1079640"/>
            <a:ext cx="903240" cy="16207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60720" y="1081080"/>
            <a:ext cx="560160" cy="36036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0T08:04:58Z</dcterms:created>
  <dc:creator>tade </dc:creator>
  <dc:description/>
  <dc:language>en-US</dc:language>
  <cp:lastModifiedBy/>
  <cp:revision>1</cp:revision>
  <dc:subject/>
  <dc:title/>
</cp:coreProperties>
</file>