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524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09F6B-16A3-4523-B163-E113BDB585AD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484D7-BD3C-41EE-A80A-6194F83777C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56CBE-39AB-4FD5-8F98-AE362EE082CD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715EF-6EE0-4819-A686-5F9E1EA37A6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2F883-B88C-4056-9B62-1EDD1469539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B9A74-7281-45CB-B129-01F9EEAF8C7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2815E-F91C-4037-B42C-ABE566B61EF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0C8-1A21-4E44-BB43-B221B66C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375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5080"/>
            <a:ext cx="87375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876-A669-49BE-9824-EF716921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260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2600" y="374508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544-0CF3-4FDA-B428-6C3C7751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800" y="151596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4320" y="151596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508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800" y="374508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4320" y="374508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653-B428-419B-9AE2-85F92E2C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960"/>
            <a:ext cx="87375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858-6684-41CD-AE9E-E0FD5622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375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2F2F-9366-4C60-9A94-773FAC88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6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2600" y="1515960"/>
            <a:ext cx="426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007-AED6-4934-AC09-AD29C7F3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EE3-253C-415E-B8E1-706CF47C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37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A9E-97BB-4AFC-9BE7-7D07CF01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2600" y="1515960"/>
            <a:ext cx="426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321-958D-475E-AFF6-A56FA692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6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260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2600" y="374508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3B2A-8B59-40C6-ACC3-9D5980C2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260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87375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1E1-F721-49B2-B721-A41E1A79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960"/>
            <a:ext cx="87375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5432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7188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396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578559-7150-4912-9030-CD5EFD76D2CD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56" name="Oval 4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df3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24000" y="4140360"/>
            <a:ext cx="56016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h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g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f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" name="Straight Arrow Connector 9"/>
          <p:cNvCxnSpPr/>
          <p:nvPr/>
        </p:nvCxnSpPr>
        <p:spPr>
          <a:xfrm flipV="1">
            <a:off x="610920" y="2231640"/>
            <a:ext cx="1080" cy="1837440"/>
          </a:xfrm>
          <a:prstGeom prst="straightConnector1">
            <a:avLst/>
          </a:prstGeom>
          <a:ln w="38160">
            <a:solidFill>
              <a:srgbClr val="a6a6a6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4" name="Oval 4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V="1">
            <a:off x="1079640" y="1611360"/>
            <a:ext cx="179280" cy="55872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7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9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1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0df3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df3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0df3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79" name="Oval 4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 flipV="1">
            <a:off x="1079640" y="1611360"/>
            <a:ext cx="179280" cy="55872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Oval 7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9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11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0df3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0df3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7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8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0df3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419640" y="3465360"/>
            <a:ext cx="560160" cy="855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df3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21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0df3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24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03" name="Oval 4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 flipV="1">
            <a:off x="1079640" y="1611360"/>
            <a:ext cx="179280" cy="55872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0df3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0df3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4a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18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9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df3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3419640" y="3465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3240000" y="3780000"/>
            <a:ext cx="179640" cy="161892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24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25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4680000" y="4184640"/>
            <a:ext cx="560160" cy="855720"/>
          </a:xfrm>
          <a:prstGeom prst="rect">
            <a:avLst/>
          </a:prstGeom>
          <a:solidFill>
            <a:srgbClr val="0df3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0df3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0df3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30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33" name="Oval 4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1079640" y="1611360"/>
            <a:ext cx="179280" cy="55872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0df3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0df3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9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4a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419640" y="3465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1"/>
          <p:cNvSpPr/>
          <p:nvPr/>
        </p:nvSpPr>
        <p:spPr>
          <a:xfrm>
            <a:off x="3240000" y="3780000"/>
            <a:ext cx="179640" cy="161892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0df3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5919840" y="3824280"/>
            <a:ext cx="563400" cy="855720"/>
          </a:xfrm>
          <a:prstGeom prst="rect">
            <a:avLst/>
          </a:prstGeom>
          <a:solidFill>
            <a:srgbClr val="0df3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4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5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26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7"/>
          <p:cNvSpPr/>
          <p:nvPr/>
        </p:nvSpPr>
        <p:spPr>
          <a:xfrm>
            <a:off x="4680000" y="4184640"/>
            <a:ext cx="560160" cy="855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df3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4500720" y="3060720"/>
            <a:ext cx="1260360" cy="161928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30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0df3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32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65" name="Oval 4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5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 flipV="1">
            <a:off x="1079640" y="1611360"/>
            <a:ext cx="179280" cy="55872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0df3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0df3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5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6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7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9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3419640" y="3465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3240000" y="3780000"/>
            <a:ext cx="179640" cy="161892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0df3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5919840" y="3824280"/>
            <a:ext cx="563400" cy="855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df3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4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26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7"/>
          <p:cNvSpPr/>
          <p:nvPr/>
        </p:nvSpPr>
        <p:spPr>
          <a:xfrm>
            <a:off x="4680000" y="4319640"/>
            <a:ext cx="1079280" cy="360360"/>
          </a:xfrm>
          <a:prstGeom prst="line">
            <a:avLst/>
          </a:prstGeom>
          <a:ln w="7200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4680000" y="418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29"/>
          <p:cNvSpPr/>
          <p:nvPr/>
        </p:nvSpPr>
        <p:spPr>
          <a:xfrm>
            <a:off x="4500720" y="3060720"/>
            <a:ext cx="1260360" cy="161928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31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0df3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33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>tade</cp:lastModifiedBy>
  <dcterms:modified xsi:type="dcterms:W3CDTF">2019-09-23T08:48:23Z</dcterms:modified>
  <cp:revision>5</cp:revision>
  <dc:subject/>
  <dc:title>Slide 1</dc:title>
</cp:coreProperties>
</file>