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3C5-98A2-40FF-A178-7E6849B4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F80-EF94-48F2-B843-4436964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E59-7329-45F7-8C77-1412D238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E8C-AE41-4E44-A21F-FBD7990F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5F9-063E-4B0B-A850-47B7B16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FCC-8240-4B1C-9125-A80004C3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2C9-BB5D-40DB-9D71-CE5B4F7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B5E-5DDC-4D2E-8F16-B387A53A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031-E3A2-4921-9ADC-AB38AAA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B0B-611F-4D3D-A294-8D5C223C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213-F80E-43CA-9847-C80F227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136-0E3D-49D3-876A-882F0B2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2C28A-75D9-4112-BC2C-A38859179786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80000" y="4319640"/>
            <a:ext cx="90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378000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8920" y="3059280"/>
            <a:ext cx="12621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364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8920" y="3059280"/>
            <a:ext cx="12621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59280" y="364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