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40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dt" idx="22"/>
          </p:nvPr>
        </p:nvSpPr>
        <p:spPr>
          <a:xfrm>
            <a:off x="3881160" y="0"/>
            <a:ext cx="294300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23"/>
          </p:nvPr>
        </p:nvSpPr>
        <p:spPr>
          <a:xfrm>
            <a:off x="0" y="8686800"/>
            <a:ext cx="2943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24"/>
          </p:nvPr>
        </p:nvSpPr>
        <p:spPr>
          <a:xfrm>
            <a:off x="388116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D91E1-B603-4774-87D7-D4863A4B734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9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30286-230A-4CA8-AA6B-F8141EF6343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351EE-0F70-4A21-8816-7099933285A5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7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22FD9-CFAF-46B8-95E7-14919E8AC24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3C38B-5A91-40F1-8A24-38C39013550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3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FBDA-2F90-4975-88F0-08CA69F8544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6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8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89EC2-F844-4762-B8CD-3CFD0E385E9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1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0516B-C9FB-4D65-BC65-3E1CF192816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2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4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E8FED-F47D-4136-AF20-C384E087B4D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5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7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B7EF3-AC27-4F64-AB03-F1687DFCEC0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8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8720C-1507-44DA-A603-4AB1B33D296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1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3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33BAC-07CE-4D9C-924B-98F53263CC0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7DB75-4CC2-4727-A228-B972BA697BB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3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6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9FB88-5AF0-42EA-B514-ED028FE16B8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7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9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C43CE-435E-488D-AEDC-2E6D09B2757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2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4173C-B1E8-4902-A3A2-2B39E20D8D9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3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2E93D-BE44-4D4A-8366-DEF0C562AEC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6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8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0CEE5-877B-418E-8010-B55D30F5877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C3518-6501-4392-BF51-0EBC7DC11715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2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4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4EEC1-3CFA-48C6-A517-7F8BD63BFC8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5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7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6AA55-FA14-4B19-83FA-1242549A37D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8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60499-2870-4C95-BAF1-45F539FCBAD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1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3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A0110-168A-4BAF-A2A8-0FAA0AE0DDE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5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20237-6AA8-4EC3-BCFA-A6CE2ABFAA3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6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3EA40-5200-43AC-A4DD-0D5C5DF7D9E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7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9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0D30C-B488-4E6E-973D-AF85DE1896A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500A2-8E97-455D-A623-D8E7DD66B2F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3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5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B5954-71B2-4273-91CC-CD55B216399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6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8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C676B-0B0C-4BFE-A47F-ABA6ADDEE44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1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0D805-4952-49FD-89FB-CA799475CCD5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2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52D72-270F-4266-9268-A1A546063CB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5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7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961B9-0F50-4A32-A8ED-3F310A1EBD0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8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0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5F75E-C74B-4443-AD93-202044D83A5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1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8CBF8-B5A3-4615-A36D-000DD2E8F3A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8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97553-10FC-42C7-B7EC-30BB48BD0D9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6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CD9BB-6C87-4A1E-8959-57E3996F282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7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9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670DF-5BC5-42D1-A613-FFEFF95ABBE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2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E9E5E-0ABB-4B5C-B7D3-1C622CE5055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3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0145B-6390-4723-B9CB-F694EFF3253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6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7AB6E-EF72-4708-836A-EC0C82BFFDE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1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CD9B6-FFE2-4939-91FD-D7DF6196073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2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4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0C5E3-8D43-4EC7-A187-3A02538AE4E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5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7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849DC-6B06-4932-905C-6D4C1ED8072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8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18448-6383-4D52-BDB6-ADA940C49CC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1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3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B5E55-22BA-436E-8EB0-E4B13D9CDAC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1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F709C-F0F4-4DF7-93F5-007D15B794A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2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6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48457-1BCE-40BA-9241-DAE5B620A95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7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AC871-58AD-452F-9F2C-2E3C01F3141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FA843-6DBD-4093-ADE0-78D51F36F82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3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5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6212F-85AC-45F3-ABF5-3C53675BB99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6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2E423-B4C8-4FA4-B943-E7860116353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F912B-213C-42AD-922C-687F6881168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2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4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72CFD-DEDB-407E-BF04-A2F2EF2A9D9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5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7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F09CE-5287-4E51-8315-F5722E6F98B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8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0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20C4F-29E2-4FF6-9839-6D87729B37B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1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3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A9C26-ADBB-40C8-8858-610BBDCC1C2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4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6B81C-B713-4741-9271-234C629FCA45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5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6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81E83-A477-4118-BC00-7EA7C5AC320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7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BDEDD-9222-4B95-BDDC-F55D10E164E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2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A7D08-284B-4B70-A3A3-C50D238806E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3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22080-381F-4829-AF92-1ECD09D3058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6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5ABA1-5EB6-4BDE-B506-F2975F5F30D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1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74538-3D9D-4DED-8AED-1869F929047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2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737AB-B702-4F67-A47E-2DC1EA93DF0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5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7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36CAF-22D2-47CB-8694-1DEAE35730FB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8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0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72ABD-7899-4E04-B2A1-E94D0A2DA18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1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3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0B679-4119-47BF-9BE1-07BFBFF8258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9E619-A8D9-4B00-BEA4-D8D222236F6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8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0F2C5-2566-4CDA-AEE9-0AE93EAE95BB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7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DD4BA-4006-479E-AA7F-39799322C8D5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2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50A93-F099-4CE4-81B6-825E8C31629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3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7447D-F02F-4459-83E0-FEC0F8C3ED6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6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8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CBBA1-2464-43A4-AA21-04E9955753C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F8A93-114B-4648-BD96-55D567D95B3B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2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4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32C98-D6ED-4BA5-9963-EB0ADA37750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5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04A7F-E709-4DAF-AB1E-61B6002DC5A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8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0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2809A-6522-4136-A6D0-1E6AA420B42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1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3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76D3B-FD62-40BE-AFAC-0DE85587A8D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0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67728-8441-4387-A2B1-CA2DD9E4210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1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BB075-2762-4AC1-B879-E52B12CB85E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7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9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648DD-FAA4-4867-914B-9B9700BCD98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3" name="Rectangle 25"/>
          <p:cNvSpPr/>
          <p:nvPr/>
        </p:nvSpPr>
        <p:spPr>
          <a:xfrm>
            <a:off x="3881520" y="8686800"/>
            <a:ext cx="2943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57413-1E02-48B0-9D00-C3DFB523CD8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54720" cy="3414960"/>
          </a:xfrm>
          <a:prstGeom prst="rect">
            <a:avLst/>
          </a:prstGeom>
          <a:ln w="0">
            <a:noFill/>
          </a:ln>
        </p:spPr>
      </p:sp>
      <p:sp>
        <p:nvSpPr>
          <p:cNvPr id="5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363-BAEC-4637-A35F-7E98F890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C92-B934-4825-9B98-7E61D300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DB6-75E7-45BC-883B-9F1EA7DB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0084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0084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03C-7921-407F-8239-B544255A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C378-54D9-4452-B960-5CB0CE57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4CA0-6F07-402B-9840-7EA54174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5B40-F3F1-429D-91F4-DEC05127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77FD-463C-4F91-B4DB-8AF6ED4F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7D2F-F280-4F75-A4D8-7C24FE24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191880"/>
            <a:ext cx="8197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F272-1562-462E-A587-3B05E146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8733-6DAC-4AE3-BB79-1CB3DDAD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D99-6C01-4E77-8977-542526D9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4854-0D70-4105-AC5A-1617CCC6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EB44-EED4-4D70-B644-DA577B4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BFAE-6789-445A-B9ED-9B80C8BE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D304-95C2-4DA7-B392-500CFA20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0084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0084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ADC8-4AA0-4C62-887D-2CE37358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B65E-1BA4-4FE0-830C-A23A3475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FFAA-A0CE-431F-90C2-7E4BA821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40B2-0295-4B22-A766-3BB161B2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8C4C-C811-401A-BA00-CB74EEC6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9B701-660F-40D2-994C-4F5FFD3A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5DD-724E-4A91-9206-F324B689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191880"/>
            <a:ext cx="8197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34E6F-EDA5-4F7A-8E80-B8014D6F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F637F-EA36-40E6-9CC4-7C9B0D21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F9A9-DBCB-422E-8517-B9B8C100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B870-D1BA-4248-ABB0-1BBF9AB7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C82A-2BC3-44D5-ACFE-AADE97D9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766ED-FD77-4A77-AA5D-AD9B3D94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29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0084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29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0084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3E5B-7616-486E-AF06-EDB54E90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1F579-32BB-43AE-B0D5-35E618DC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4178-5754-4B2A-B96C-5D3676D9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2E22-755E-477D-97B5-3B4587CB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E94-920D-47DF-B6D6-12BF18C8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6E16-754C-4262-84CB-252B5AF2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8E88-F42B-4D18-8AEE-29A84ED7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191880"/>
            <a:ext cx="8197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3DC5A-362E-4434-84E8-2E2DF3C4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F076F-47CC-4A40-A50A-9B9CCE3A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E4DBC-4E05-4A65-9857-24D182DA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6BF64-F216-491C-85E3-A9DD7E98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CD0EC-F250-4ED4-B6EB-C87BEE5F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66B21-69F7-4A5D-A966-23794DC4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29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084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29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084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8EC54-32DC-4273-B858-237B77CF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6859-0CAC-4756-8A8B-E342CB1E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BAC-D112-4D91-851D-5D216422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B3F4D-ED4B-4C2F-BE02-A2560A25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1C897-34EA-4FDD-A000-0BBBEF81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08DF3-0C78-4772-B049-4E08E04A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D4E7-3D17-48AB-9F2D-EA5A5233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91880"/>
            <a:ext cx="8197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1F6F7-1FD0-48C9-A07A-420CCB97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00C6A-16A1-473C-A9B3-F88F87B8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28D0D-E652-4114-A3CD-64F1EF19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E77B0-4168-47E0-98F4-9E7D16C9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E4B9B-FFF2-400E-AD69-6B313245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2E563-A1D8-4448-BCEF-6DECBC1E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91880"/>
            <a:ext cx="8197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5BE-9259-46E6-BAEA-887BD2FA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29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0084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29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0084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D8035-0BC6-4EB0-8A26-1E5074D8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D3AC8-AC25-4385-8CDE-13FF1913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619A6-4426-45E5-875B-17262F36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2AF5B-0D02-4B09-BCD4-E3E2EBA9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60110-3FB3-4628-965C-E07F73FD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07737-13E1-40D0-B544-94FCB739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191880"/>
            <a:ext cx="8197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11882-C94C-43AE-B193-E2DFEBCE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09A65-7452-40A1-BB26-BF7E048C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1728C-BA76-4D5A-A2F5-F1C5BE2D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757E6-E5D4-465C-B149-80E3CCAA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CAA-A3EE-45E7-ACB9-1F290BB8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E1778-C073-4002-BBC2-8669FC54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C6B0E-A5C3-45FC-A1E9-23486F4F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29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0084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29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0084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37F7D-FD97-49D6-9359-36638027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1D7F2-FF22-4D6A-9A12-34E37A36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3DAC1-32FE-487C-8C3D-ADB60037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CE382-ED81-44C5-89A9-AE9EE098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EFE35-E833-4814-9067-6F3C781D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D745F-419F-42AF-950C-C34A57E2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191880"/>
            <a:ext cx="8197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85E52-258B-41E8-93FE-8296EEE7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C1471-5D51-42BC-A83A-0D7C1B64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237-5EA6-4CCC-A562-389AB47E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DC123-A71B-4279-B039-F7B7B5A3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5CEDB-5538-4259-B911-1FAC0788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EE022-F232-4E1E-909E-EA426750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58040" y="395244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CED1A-9A39-4F57-B238-2EC2B14E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2920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00840" y="160488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2920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00840" y="395244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F13C6-6089-491E-9F1C-9E5A2F9E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60488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244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74E-D249-4357-9555-7A2966C3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b44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5335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4c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955800"/>
            <a:ext cx="422280" cy="474480"/>
          </a:xfrm>
          <a:prstGeom prst="rect">
            <a:avLst/>
          </a:prstGeom>
          <a:solidFill>
            <a:srgbClr val="fdf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9558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f70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2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4255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2160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-398520"/>
            <a:ext cx="776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840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2040"/>
            <a:ext cx="187308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7760" y="6242040"/>
            <a:ext cx="28638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2040"/>
            <a:ext cx="187308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EE1616-92D2-4838-82C5-42933E9974C1}" type="slidenum"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1905120"/>
            <a:ext cx="8977320" cy="1020600"/>
            <a:chOff x="0" y="1905120"/>
            <a:chExt cx="8977320" cy="1020600"/>
          </a:xfrm>
        </p:grpSpPr>
        <p:grpSp>
          <p:nvGrpSpPr>
            <p:cNvPr id="49" name="Group 2"/>
            <p:cNvGrpSpPr/>
            <p:nvPr/>
          </p:nvGrpSpPr>
          <p:grpSpPr>
            <a:xfrm>
              <a:off x="290520" y="2013120"/>
              <a:ext cx="679320" cy="442800"/>
              <a:chOff x="290520" y="2013120"/>
              <a:chExt cx="679320" cy="44280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0520" y="2013120"/>
                <a:ext cx="406440" cy="442800"/>
              </a:xfrm>
              <a:prstGeom prst="rect">
                <a:avLst/>
              </a:prstGeom>
              <a:solidFill>
                <a:srgbClr val="fdf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3200" y="2013120"/>
                <a:ext cx="296640" cy="442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df7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4360" y="2435400"/>
              <a:ext cx="705960" cy="442800"/>
              <a:chOff x="414360" y="2435400"/>
              <a:chExt cx="705960" cy="44280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4360" y="2435400"/>
                <a:ext cx="421560" cy="442800"/>
              </a:xfrm>
              <a:prstGeom prst="rect">
                <a:avLst/>
              </a:prstGeom>
              <a:solidFill>
                <a:srgbClr val="b44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3360" y="2435400"/>
                <a:ext cx="336960" cy="442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44c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362320"/>
              <a:ext cx="528480" cy="39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0d27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5040" y="1905120"/>
              <a:ext cx="360" cy="10206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6080" y="2727000"/>
              <a:ext cx="8661240" cy="2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139760"/>
            <a:ext cx="774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87308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6380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87308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u-HU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186D04-7464-47E5-9727-B029733D7C6B}" type="slidenum">
              <a:rPr b="0" lang="hu-HU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7200" y="6246720"/>
            <a:ext cx="2098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6704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098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C09698-009B-4578-B406-9623C922220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7200" y="6246720"/>
            <a:ext cx="2098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6704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098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B84A31-5EA1-48F3-87E3-B5C58B1D800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7200" y="6246720"/>
            <a:ext cx="2098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6704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098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4AD44F-A7A2-464A-9D3D-C838D5A13BC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7200" y="6246720"/>
            <a:ext cx="2098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6704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098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E7ADF7-6E62-42FE-8231-F2023451DE1B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9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7200" y="6246720"/>
            <a:ext cx="2098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6704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098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CB28C2-A703-4028-BF98-2BEE11E7B21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67"/>
          <p:cNvGraphicFramePr/>
          <p:nvPr/>
        </p:nvGraphicFramePr>
        <p:xfrm>
          <a:off x="214200" y="5786280"/>
          <a:ext cx="661212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786280"/>
                    <a:ext cx="66121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8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9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0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1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2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3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4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5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6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7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8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9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0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1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2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3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4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5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6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7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8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9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0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1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2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3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4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5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6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7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8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9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0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1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2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3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4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5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6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7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8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9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0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1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2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3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4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5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6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7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8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9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0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1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2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3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4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5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6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7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8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9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0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1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7" name="Picture 3" descr="simanneal-Fig2.jpg"/>
          <p:cNvPicPr/>
          <p:nvPr/>
        </p:nvPicPr>
        <p:blipFill>
          <a:blip r:embed="rId1"/>
          <a:stretch/>
        </p:blipFill>
        <p:spPr>
          <a:xfrm>
            <a:off x="0" y="0"/>
            <a:ext cx="5343480" cy="4000680"/>
          </a:xfrm>
          <a:prstGeom prst="rect">
            <a:avLst/>
          </a:prstGeom>
          <a:ln w="0">
            <a:noFill/>
          </a:ln>
        </p:spPr>
      </p:pic>
      <p:pic>
        <p:nvPicPr>
          <p:cNvPr id="5598" name="Picture 4" descr="simanneal-Fig1.jpg"/>
          <p:cNvPicPr/>
          <p:nvPr/>
        </p:nvPicPr>
        <p:blipFill>
          <a:blip r:embed="rId2"/>
          <a:stretch/>
        </p:blipFill>
        <p:spPr>
          <a:xfrm>
            <a:off x="3800520" y="2857680"/>
            <a:ext cx="5343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Oval 4"/>
          <p:cNvSpPr/>
          <p:nvPr/>
        </p:nvSpPr>
        <p:spPr>
          <a:xfrm>
            <a:off x="4071960" y="357120"/>
            <a:ext cx="285840" cy="2858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Oval 5"/>
          <p:cNvSpPr/>
          <p:nvPr/>
        </p:nvSpPr>
        <p:spPr>
          <a:xfrm>
            <a:off x="1785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Oval 6"/>
          <p:cNvSpPr/>
          <p:nvPr/>
        </p:nvSpPr>
        <p:spPr>
          <a:xfrm>
            <a:off x="4071960" y="107172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Oval 7"/>
          <p:cNvSpPr/>
          <p:nvPr/>
        </p:nvSpPr>
        <p:spPr>
          <a:xfrm>
            <a:off x="6286680" y="1071720"/>
            <a:ext cx="285480" cy="28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Oval 8"/>
          <p:cNvSpPr/>
          <p:nvPr/>
        </p:nvSpPr>
        <p:spPr>
          <a:xfrm>
            <a:off x="1785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Oval 9"/>
          <p:cNvSpPr/>
          <p:nvPr/>
        </p:nvSpPr>
        <p:spPr>
          <a:xfrm>
            <a:off x="4071960" y="1785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Oval 10"/>
          <p:cNvSpPr/>
          <p:nvPr/>
        </p:nvSpPr>
        <p:spPr>
          <a:xfrm>
            <a:off x="6286680" y="178596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Oval 11"/>
          <p:cNvSpPr/>
          <p:nvPr/>
        </p:nvSpPr>
        <p:spPr>
          <a:xfrm>
            <a:off x="1143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Oval 12"/>
          <p:cNvSpPr/>
          <p:nvPr/>
        </p:nvSpPr>
        <p:spPr>
          <a:xfrm>
            <a:off x="221472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Oval 13"/>
          <p:cNvSpPr/>
          <p:nvPr/>
        </p:nvSpPr>
        <p:spPr>
          <a:xfrm>
            <a:off x="36432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Oval 14"/>
          <p:cNvSpPr/>
          <p:nvPr/>
        </p:nvSpPr>
        <p:spPr>
          <a:xfrm>
            <a:off x="4572000" y="250020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Oval 15"/>
          <p:cNvSpPr/>
          <p:nvPr/>
        </p:nvSpPr>
        <p:spPr>
          <a:xfrm>
            <a:off x="6286680" y="2500200"/>
            <a:ext cx="28548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Oval 16"/>
          <p:cNvSpPr/>
          <p:nvPr/>
        </p:nvSpPr>
        <p:spPr>
          <a:xfrm>
            <a:off x="1714680" y="3214800"/>
            <a:ext cx="28548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Oval 17"/>
          <p:cNvSpPr/>
          <p:nvPr/>
        </p:nvSpPr>
        <p:spPr>
          <a:xfrm>
            <a:off x="264312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Oval 18"/>
          <p:cNvSpPr/>
          <p:nvPr/>
        </p:nvSpPr>
        <p:spPr>
          <a:xfrm>
            <a:off x="36432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Oval 19"/>
          <p:cNvSpPr/>
          <p:nvPr/>
        </p:nvSpPr>
        <p:spPr>
          <a:xfrm>
            <a:off x="264312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Oval 20"/>
          <p:cNvSpPr/>
          <p:nvPr/>
        </p:nvSpPr>
        <p:spPr>
          <a:xfrm>
            <a:off x="4572000" y="3214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Oval 21"/>
          <p:cNvSpPr/>
          <p:nvPr/>
        </p:nvSpPr>
        <p:spPr>
          <a:xfrm>
            <a:off x="421488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Oval 22"/>
          <p:cNvSpPr/>
          <p:nvPr/>
        </p:nvSpPr>
        <p:spPr>
          <a:xfrm>
            <a:off x="5072040" y="3929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Oval 23"/>
          <p:cNvSpPr/>
          <p:nvPr/>
        </p:nvSpPr>
        <p:spPr>
          <a:xfrm>
            <a:off x="478620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4"/>
          <p:cNvSpPr/>
          <p:nvPr/>
        </p:nvSpPr>
        <p:spPr>
          <a:xfrm>
            <a:off x="5572080" y="46432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Oval 25"/>
          <p:cNvSpPr/>
          <p:nvPr/>
        </p:nvSpPr>
        <p:spPr>
          <a:xfrm>
            <a:off x="5572080" y="535788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Straight Connector 29"/>
          <p:cNvSpPr/>
          <p:nvPr/>
        </p:nvSpPr>
        <p:spPr>
          <a:xfrm flipV="1">
            <a:off x="2029680" y="500040"/>
            <a:ext cx="20415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Straight Connector 31"/>
          <p:cNvSpPr/>
          <p:nvPr/>
        </p:nvSpPr>
        <p:spPr>
          <a:xfrm flipV="1">
            <a:off x="4214880" y="642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Straight Connector 33"/>
          <p:cNvSpPr/>
          <p:nvPr/>
        </p:nvSpPr>
        <p:spPr>
          <a:xfrm flipH="1" flipV="1">
            <a:off x="4357800" y="500040"/>
            <a:ext cx="1969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Straight Connector 35"/>
          <p:cNvSpPr/>
          <p:nvPr/>
        </p:nvSpPr>
        <p:spPr>
          <a:xfrm flipV="1">
            <a:off x="1928880" y="13568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Straight Connector 37"/>
          <p:cNvSpPr/>
          <p:nvPr/>
        </p:nvSpPr>
        <p:spPr>
          <a:xfrm flipV="1">
            <a:off x="1387440" y="2030400"/>
            <a:ext cx="4399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Straight Connector 39"/>
          <p:cNvSpPr/>
          <p:nvPr/>
        </p:nvSpPr>
        <p:spPr>
          <a:xfrm flipH="1" flipV="1">
            <a:off x="2030400" y="203040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Straight Connector 41"/>
          <p:cNvSpPr/>
          <p:nvPr/>
        </p:nvSpPr>
        <p:spPr>
          <a:xfrm flipV="1">
            <a:off x="1959120" y="2744640"/>
            <a:ext cx="296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Straight Connector 43"/>
          <p:cNvSpPr/>
          <p:nvPr/>
        </p:nvSpPr>
        <p:spPr>
          <a:xfrm flipH="1" flipV="1">
            <a:off x="2459160" y="2744640"/>
            <a:ext cx="2253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Straight Connector 45"/>
          <p:cNvSpPr/>
          <p:nvPr/>
        </p:nvSpPr>
        <p:spPr>
          <a:xfrm>
            <a:off x="421488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Straight Connector 47"/>
          <p:cNvSpPr/>
          <p:nvPr/>
        </p:nvSpPr>
        <p:spPr>
          <a:xfrm>
            <a:off x="6429240" y="13572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Straight Connector 49"/>
          <p:cNvSpPr/>
          <p:nvPr/>
        </p:nvSpPr>
        <p:spPr>
          <a:xfrm>
            <a:off x="6429240" y="2071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Straight Connector 51"/>
          <p:cNvSpPr/>
          <p:nvPr/>
        </p:nvSpPr>
        <p:spPr>
          <a:xfrm flipV="1">
            <a:off x="3886920" y="2030400"/>
            <a:ext cx="22572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Straight Connector 53"/>
          <p:cNvSpPr/>
          <p:nvPr/>
        </p:nvSpPr>
        <p:spPr>
          <a:xfrm>
            <a:off x="4315680" y="203040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Straight Connector 55"/>
          <p:cNvSpPr/>
          <p:nvPr/>
        </p:nvSpPr>
        <p:spPr>
          <a:xfrm>
            <a:off x="37861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Straight Connector 57"/>
          <p:cNvSpPr/>
          <p:nvPr/>
        </p:nvSpPr>
        <p:spPr>
          <a:xfrm>
            <a:off x="2786040" y="3500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Straight Connector 59"/>
          <p:cNvSpPr/>
          <p:nvPr/>
        </p:nvSpPr>
        <p:spPr>
          <a:xfrm>
            <a:off x="4714920" y="2786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Straight Connector 61"/>
          <p:cNvSpPr/>
          <p:nvPr/>
        </p:nvSpPr>
        <p:spPr>
          <a:xfrm flipH="1">
            <a:off x="4459320" y="3459240"/>
            <a:ext cx="154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Straight Connector 64"/>
          <p:cNvSpPr/>
          <p:nvPr/>
        </p:nvSpPr>
        <p:spPr>
          <a:xfrm>
            <a:off x="4815720" y="345924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Straight Connector 70"/>
          <p:cNvSpPr/>
          <p:nvPr/>
        </p:nvSpPr>
        <p:spPr>
          <a:xfrm flipV="1">
            <a:off x="4929120" y="4173120"/>
            <a:ext cx="18432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Straight Connector 72"/>
          <p:cNvSpPr/>
          <p:nvPr/>
        </p:nvSpPr>
        <p:spPr>
          <a:xfrm flipH="1" flipV="1">
            <a:off x="5316120" y="4173480"/>
            <a:ext cx="297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Straight Connector 74"/>
          <p:cNvSpPr/>
          <p:nvPr/>
        </p:nvSpPr>
        <p:spPr>
          <a:xfrm flipV="1">
            <a:off x="5715000" y="49287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Box 75"/>
          <p:cNvSpPr/>
          <p:nvPr/>
        </p:nvSpPr>
        <p:spPr>
          <a:xfrm>
            <a:off x="4360320" y="21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Box 76"/>
          <p:cNvSpPr/>
          <p:nvPr/>
        </p:nvSpPr>
        <p:spPr>
          <a:xfrm>
            <a:off x="21459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Box 77"/>
          <p:cNvSpPr/>
          <p:nvPr/>
        </p:nvSpPr>
        <p:spPr>
          <a:xfrm>
            <a:off x="436032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Box 78"/>
          <p:cNvSpPr/>
          <p:nvPr/>
        </p:nvSpPr>
        <p:spPr>
          <a:xfrm>
            <a:off x="65750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Box 79"/>
          <p:cNvSpPr/>
          <p:nvPr/>
        </p:nvSpPr>
        <p:spPr>
          <a:xfrm>
            <a:off x="664632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Box 80"/>
          <p:cNvSpPr/>
          <p:nvPr/>
        </p:nvSpPr>
        <p:spPr>
          <a:xfrm>
            <a:off x="663876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Box 81"/>
          <p:cNvSpPr/>
          <p:nvPr/>
        </p:nvSpPr>
        <p:spPr>
          <a:xfrm>
            <a:off x="4431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Box 82"/>
          <p:cNvSpPr/>
          <p:nvPr/>
        </p:nvSpPr>
        <p:spPr>
          <a:xfrm>
            <a:off x="40032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Box 83"/>
          <p:cNvSpPr/>
          <p:nvPr/>
        </p:nvSpPr>
        <p:spPr>
          <a:xfrm>
            <a:off x="4932720" y="2428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Box 84"/>
          <p:cNvSpPr/>
          <p:nvPr/>
        </p:nvSpPr>
        <p:spPr>
          <a:xfrm>
            <a:off x="493272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Box 85"/>
          <p:cNvSpPr/>
          <p:nvPr/>
        </p:nvSpPr>
        <p:spPr>
          <a:xfrm>
            <a:off x="45756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TextBox 86"/>
          <p:cNvSpPr/>
          <p:nvPr/>
        </p:nvSpPr>
        <p:spPr>
          <a:xfrm>
            <a:off x="543276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Box 87"/>
          <p:cNvSpPr/>
          <p:nvPr/>
        </p:nvSpPr>
        <p:spPr>
          <a:xfrm>
            <a:off x="507564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Box 88"/>
          <p:cNvSpPr/>
          <p:nvPr/>
        </p:nvSpPr>
        <p:spPr>
          <a:xfrm>
            <a:off x="586152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Box 89"/>
          <p:cNvSpPr/>
          <p:nvPr/>
        </p:nvSpPr>
        <p:spPr>
          <a:xfrm>
            <a:off x="5932800" y="528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Box 90"/>
          <p:cNvSpPr/>
          <p:nvPr/>
        </p:nvSpPr>
        <p:spPr>
          <a:xfrm>
            <a:off x="214596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Box 91"/>
          <p:cNvSpPr/>
          <p:nvPr/>
        </p:nvSpPr>
        <p:spPr>
          <a:xfrm>
            <a:off x="150300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Box 92"/>
          <p:cNvSpPr/>
          <p:nvPr/>
        </p:nvSpPr>
        <p:spPr>
          <a:xfrm>
            <a:off x="257436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Box 93"/>
          <p:cNvSpPr/>
          <p:nvPr/>
        </p:nvSpPr>
        <p:spPr>
          <a:xfrm>
            <a:off x="207540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Box 94"/>
          <p:cNvSpPr/>
          <p:nvPr/>
        </p:nvSpPr>
        <p:spPr>
          <a:xfrm>
            <a:off x="293256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Box 95"/>
          <p:cNvSpPr/>
          <p:nvPr/>
        </p:nvSpPr>
        <p:spPr>
          <a:xfrm>
            <a:off x="3932640" y="314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Box 96"/>
          <p:cNvSpPr/>
          <p:nvPr/>
        </p:nvSpPr>
        <p:spPr>
          <a:xfrm>
            <a:off x="2932560" y="3929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5:14:46Z</dcterms:created>
  <dc:creator>Min-Yen Kan</dc:creator>
  <dc:description/>
  <dc:language>en-US</dc:language>
  <cp:lastModifiedBy>tade</cp:lastModifiedBy>
  <dcterms:modified xsi:type="dcterms:W3CDTF">2016-11-06T18:13:11Z</dcterms:modified>
  <cp:revision>18</cp:revision>
  <dc:subject/>
  <dc:title>Constraint Satisfaction Problems</dc:title>
</cp:coreProperties>
</file>